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F4C-7758-4FF1-9079-AA840EEC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C79-D728-4B75-A2A9-72E1BC01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87B-196A-4330-AF6A-2ACF9E28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473-4062-4154-8A3A-03A70E49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81E2-1FDC-4A6C-9814-C2B2AF9E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F6A7-E186-473F-BD78-4C76F103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282A-3155-4E27-8EAA-4B2F62D9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4E16-8031-4475-A178-878CF2D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1044-D60E-4217-B43D-94277F1B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16BA-FE86-4670-9177-BCB434F9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5C7E-B9C8-4518-8040-B91ED06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23E-D8C1-4DB7-91CE-B3E3D1FF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1DEC-2E4C-4FCD-BA02-B92677D1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EFE4-EBF7-401F-94F4-55287009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3CBF-8CF0-4AE5-A29B-3C7A927E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7F22-DCB9-4776-8F0F-02A2D691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8F99-5D49-4095-B22E-CED06CE4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9CE-B07E-4E08-944A-18E8AE5C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A21-2F64-4CA5-867C-30EA3BCA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1F1-8914-49B7-92E4-13290594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A1B-AAD9-432F-A3B3-8428818F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1FD-B1DA-407C-AD60-C45D1A4D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F89-73AB-4D66-876B-265C341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A62-F836-4BE5-8CAD-1986307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F297-B20A-40FB-9A13-44CA22F147E6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0618-CB05-4442-8CD7-E5FA1BBBACE5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hools.manatee.k12.fl.us/Welcome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To Create A Web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ndy Tacket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ヒラギノ角ゴ Pro W3"/>
              </a:rPr>
              <a:t>_x0003_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the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most finished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w, you are back to your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 should be 6 pages listed on this main p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nder the submit section.  Click until there is a check in each box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s is what your page should look like now,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92000" y="2317680"/>
            <a:ext cx="75582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Closer 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ubmit for Approv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gratulations!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 are the proud owner of a brand new ePortfolio website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Work!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 to this s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hools.manatee.k12.fl.us/Welcome/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on Begin Using School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reate Site- type in gr0308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lder Title- Leave this field alo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oup- Type in or select 261tackett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3394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lect Them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ect Plain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the solid white backgrou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Cov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About 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Democratic Proces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Democratic Proces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rom Main Scre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Add Pag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me this pag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tle this Page- Enthusiasm for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croll all the way down to the bottom of the page.  This is where the templates ar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ePortfolio Enthusiasm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Sa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on Continu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37:19Z</dcterms:created>
  <dc:creator>Oneco Elementary</dc:creator>
  <dc:description/>
  <dc:language>en-US</dc:language>
  <cp:lastModifiedBy>Oneco Elementary</cp:lastModifiedBy>
  <dcterms:modified xsi:type="dcterms:W3CDTF">2007-10-23T17:12:45Z</dcterms:modified>
  <cp:revision>3</cp:revision>
  <dc:subject/>
  <dc:title>How To Create A Website</dc:title>
</cp:coreProperties>
</file>