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5395-9C88-4B4C-A367-307B0B4E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64F7-5A40-4E3C-A2EE-CF9537D1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BB06-1F36-4BAF-B47C-01A1AE43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5A24-BA64-42EC-A991-595F1E87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9372-A413-42A6-9D5B-E7B41554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F98C-2564-4A97-94C4-99814237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2A57-8343-4108-8720-D4498453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DACE-CE23-4DD2-8CC7-CDD0FE0B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2DBB-3880-461A-8A23-AAF35540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48E4-3B66-44BA-BAB9-433A9014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20D5-F41C-4183-A9E4-81C500E1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CB16-4A10-43B4-8CAA-BA2DD0BA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F670-436A-4774-9996-3F90814F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CF0B-71D5-423B-B633-0F09A4C9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E064-3519-4446-BB82-42DE4FA5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3906-4463-45EB-AB14-8E42BF2D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E8F2-E942-4CCD-A955-21A66E28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B63B-49A5-4F1B-A26D-1336DF00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BE2E-E03D-443F-962B-F90D4EA0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468-A677-4488-A695-64B88133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0873-E568-4005-8A63-056D4F0A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92F-04AF-4847-B4AF-90AB6DF7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4E61-8A69-4E40-8729-F034E44D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A9F0-594A-444D-BB30-F6865AA7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EE42-3F07-472C-A057-56D863AFEDB0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690D-1168-4A36-9D11-3022ADC6FC59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schools.manatee.k12.fl.us/Welcome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w To Create A Websit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randy Tacket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rom Main Scree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ヒラギノ角ゴ Pro W3"/>
              </a:rPr>
              <a:t>_x0003_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Add Pag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Enthusiasm for Learn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Enthusiasm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rom the Main Scree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Add Pag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Goal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Goal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lmost finished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Now, you are back to your main pag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re should be 6 pages listed on this main pag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Under the submit section.  Click until there is a check in each box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is is what your page should look like now,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92000" y="2317680"/>
            <a:ext cx="755820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etting Closer …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ubmit for Approva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ongratulations!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You are the proud owner of a brand new ePortfolio website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reat Work!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 to this sit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chools.manatee.k12.fl.us/Welcome/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on Begin Using School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reate Site- type in gr0308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lder Title- Leave this field alon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roup- Type in or select 261tackettgroup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724280" y="3809880"/>
            <a:ext cx="3394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elect Them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lect Plain Backgroun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the solid white backgroun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Cov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Cov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rom Main Scree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Add Pag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About M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About M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Democratic Proces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Democratic Process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rom Main Scree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Add Pag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Enthusiasm for Learn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Enthusiasm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6:37:19Z</dcterms:created>
  <dc:creator>Oneco Elementary</dc:creator>
  <dc:description/>
  <dc:language>en-US</dc:language>
  <cp:lastModifiedBy>Oneco Elementary</cp:lastModifiedBy>
  <dcterms:modified xsi:type="dcterms:W3CDTF">2007-10-23T17:12:45Z</dcterms:modified>
  <cp:revision>3</cp:revision>
  <dc:subject/>
  <dc:title>How To Create A Website</dc:title>
</cp:coreProperties>
</file>