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E02-5374-4BF1-B4EF-24A5A9A2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B6C-4FA4-45BA-89BA-87112122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133-5039-41FA-B4F4-ECF60C93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E8E-C170-446E-B015-BD064910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AB97-F8EA-4F74-9EDF-2E064BD0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73FC-D01A-4C3B-A691-7D0AC5B8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0BFF-5F8E-4D9C-91C1-F86E79EB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ABD5-D02E-4576-9987-651F4E5A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8EAB-85DE-4A43-BC31-A985EA15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312E-120A-4637-80A9-9256D2F6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EC04-2862-4775-AE28-DFB166C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040-8489-4681-B523-06694070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7701-4664-49F8-95EC-7DDB6C5A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5E9D-D830-4AA2-AC8E-5F678A80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BDE8-FB0A-4270-BE08-3DEFD2C5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DF82-7CAE-4633-996B-7B9138CD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F948-5204-4F2C-BB54-B16CAC64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F38-6B45-4A57-A556-66B90668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A63-914A-47D6-B19D-BBD607AE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4CF-C468-415C-937E-866AFA10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48D-F797-4D79-9B83-9D64C6B8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E1B-53C3-4B8C-82E1-136B8C9E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D02-A143-482A-8951-084A17D9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75C-ED7C-4462-8CDF-591E86C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7C06-518F-4C2E-85C5-02BD9FFFAE80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9206-D5A5-43CE-9097-F432C01A98C9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chools.manatee.k12.fl.us/Welcome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w To Create A Webs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randy Tacket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ヒラギノ角ゴ Pro W3"/>
              </a:rPr>
              <a:t>_x0003_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Enthusiasm for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Enthusiasm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the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lmost finished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ow, you are back to your main p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re should be 6 pages listed on this main p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Under the submit section.  Click until there is a check in each box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is is what your page should look like now,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92000" y="2317680"/>
            <a:ext cx="75582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etting Closer 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ubmit for Approv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gratulations!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You are the proud owner of a brand new ePortfolio website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 Work!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 to this s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chools.manatee.k12.fl.us/Welcome/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on Begin Using School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reate Site- type in gr0308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lder Title- Leave this field alon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oup- Type in or select 261tackettgrou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3394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elect Them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lect Plain Backgrou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the solid white backgrou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Cov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Cov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About 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About 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Democratic Proces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Democratic Proces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Enthusiasm for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Enthusiasm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6:37:19Z</dcterms:created>
  <dc:creator>Oneco Elementary</dc:creator>
  <dc:description/>
  <dc:language>en-US</dc:language>
  <cp:lastModifiedBy>Oneco Elementary</cp:lastModifiedBy>
  <dcterms:modified xsi:type="dcterms:W3CDTF">2007-10-23T17:12:45Z</dcterms:modified>
  <cp:revision>3</cp:revision>
  <dc:subject/>
  <dc:title>How To Create A Website</dc:title>
</cp:coreProperties>
</file>