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DB8-017B-43A4-A1D5-1794D87C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EED-9ACD-4F6F-AF34-7F8AB4CF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4ED-ABF2-46CA-B6EA-F80CDF68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D68-6ACD-4AD9-9136-5D48700B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C49F-815A-47CE-8C75-3D7347E2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B07C-48D4-4E5F-9F10-44364FA3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F63-D088-4CDB-B9B3-EEF43FC8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ABEC-3106-432F-909E-E6357C3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2AC6-44E5-47C4-A002-6503184C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D3B-7DCB-4ACD-AC94-461B3BF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F76-CA14-46E8-9C9C-47EFF21E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A6E-C36D-4CD4-AD1C-BA18ACCF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C8B-2F1B-4A39-AC70-B1827A0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36E-58C3-4B6B-99E6-430445A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FB77-5584-4485-8363-502A3E1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1C73-8B31-4912-8797-0E76CE9F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D0C2-5266-4B17-80D8-AC30E41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220-4083-405C-8292-30079B1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38B-98C0-44B2-A655-8D0BA4F9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03C-B01A-4D8E-BEE0-2D8B5719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992-0F8C-40CC-89FB-08CE8F7E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331-2294-44BF-8DD7-2C1A5B3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6ED-EA10-40EB-8A17-E604C9C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CF4-A15E-40FB-856A-2A1E237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3CE4-4356-4CF1-BB78-0E49FC9E6CB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125-10E5-4911-8E98-3D40835B25B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hools.manatee.k12.fl.us/Welcom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To Create A Web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ndy Tacket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ヒラギノ角ゴ Pro W3"/>
              </a:rPr>
              <a:t>_x0003_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the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most finished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you are back to your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 should be 6 pages listed on this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nder the submit section.  Click until there is a check in each box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s is what your page should look like now,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000" y="2317680"/>
            <a:ext cx="75582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Closer 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ubmit for Appro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gratulations!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are the proud owner of a brand new ePortfolio website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Work!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 to this 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s.manatee.k12.fl.us/Welcome/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on Begin Using School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reate Site- type in gr03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lder Title- Leave this field alo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oup- Type in or select 261tackett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394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lect Them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 Plain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the solid white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Democratic Proc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Democratic Proces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37:19Z</dcterms:created>
  <dc:creator>Oneco Elementary</dc:creator>
  <dc:description/>
  <dc:language>en-US</dc:language>
  <cp:lastModifiedBy>Oneco Elementary</cp:lastModifiedBy>
  <dcterms:modified xsi:type="dcterms:W3CDTF">2007-10-23T17:12:45Z</dcterms:modified>
  <cp:revision>3</cp:revision>
  <dc:subject/>
  <dc:title>How To Create A Website</dc:title>
</cp:coreProperties>
</file>