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5EE-30A1-4847-AB7D-EBCCABD5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432-0E7A-4320-A531-411F0BAC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7B5-9751-47A9-973F-C546C01E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C96-199F-4FB1-927B-DEF58745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D833-E5E1-4549-B624-E1AFE264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8858-CB73-4538-966F-95D01E18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6201-334C-4B94-9E65-90CDAFAC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43EE-E83E-4413-9EDB-FCA08ABC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6CA0-31B0-43D2-9113-FACDDFC1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AB4C-0A25-4673-8673-B736E95E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52A3-2814-4B5F-A6ED-E6B19EFE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DBA-E517-4D10-96F7-7ACA6478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4DBE-EBA5-4DFC-B4EE-0A204E6E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E675-03EA-4A96-BD86-4342839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42AA-6381-4214-9DAC-743A817A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9DCB-D477-4A20-8342-91E196D1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B5F6-C127-4454-9A66-4DE23A4B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8E3-3E94-4A3F-B267-21D3480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C27-39FE-4C24-A632-0EA145D9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3DA-2061-43AE-9287-A8197B4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D10-72A0-470B-ADCA-EBF981DC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4A5-4CE5-48FC-BE5A-F983CF74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129-3644-4173-9B10-791D1775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C53-AAEF-4FCF-937D-98E79B59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2019-F17A-444A-A7D4-D0E190F736CB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169D-BF66-4135-B1CA-F0D97176B715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hools.manatee.k12.fl.us/Welcome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To Create A Web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ndy Tacket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ヒラギノ角ゴ Pro W3"/>
              </a:rPr>
              <a:t>_x0003_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the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most finished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w, you are back to your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 should be 6 pages listed on this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nder the submit section.  Click until there is a check in each box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s is what your page should look like now,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92000" y="2317680"/>
            <a:ext cx="75582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Closer 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ubmit for Approv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gratulations!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 are the proud owner of a brand new ePortfolio website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Work!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 to this 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hools.manatee.k12.fl.us/Welcome/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on Begin Using School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reate Site- type in gr0308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lder Title- Leave this field alo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oup- Type in or select 261tackett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3394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lect Them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ect Plain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the solid white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Democratic Proces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Democratic Proces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37:19Z</dcterms:created>
  <dc:creator>Oneco Elementary</dc:creator>
  <dc:description/>
  <dc:language>en-US</dc:language>
  <cp:lastModifiedBy>Oneco Elementary</cp:lastModifiedBy>
  <dcterms:modified xsi:type="dcterms:W3CDTF">2007-10-23T17:12:45Z</dcterms:modified>
  <cp:revision>3</cp:revision>
  <dc:subject/>
  <dc:title>How To Create A Website</dc:title>
</cp:coreProperties>
</file>