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5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52C-3B0B-4A86-BDE9-0E8C1770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DDB8-729B-434E-BC66-750FDF83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0A53-A38D-4341-BE3D-AAC331B5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8197-E7CF-4E4F-9CC9-04CB025C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FBC0-1A32-4656-8EDF-66F35113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B1D2-ABAE-46BC-ABF3-F7E0DB6B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CEDC-558F-43A0-A3D3-6472E27A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3876-D3E3-4FC2-9357-A0C4EFEC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D5B5-72E5-4E6A-AC6C-F714C7A3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4FE8-479B-4E6F-98A9-9EE75638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FED1-629F-4F64-A3FB-B10E4373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DAC-D8BC-4790-A0FC-A360D7C1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CC72-13A9-4D20-9A46-90F1259F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50C5-5DA6-4BD6-BDE3-0BF4C163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A564-CCA0-4A4C-A67A-FEAFD7EF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7D87-7DBF-492E-861F-4D1D0DD0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9DA6-B974-443F-935C-FE38B853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9B5B8-9C59-4E58-B898-48B1F5BA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FFAE-1C10-47A3-B97A-E3DD6B01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6077D-848C-4B9D-B59F-FDE91C3B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6D8B7-B3A5-4FED-BE85-CD483CCB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90D9F-F75B-43EE-9AF5-F213D988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E15-E329-4D0C-AF09-82944D12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F610E-6761-4139-B847-5E0EE31A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36511-94CE-4D29-A63A-C2712CAB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A00CF-7652-4BDD-B61F-5115611B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3CEE5-C61B-4046-BF0E-5184B241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C498C-B576-440F-9928-A4481029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14201-27AC-4DD8-9A9B-0449A219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60710-B48A-4B57-9A73-3D0D131F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81F82-6069-49DB-ADA4-B772F0FB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1819F-1605-4FB8-8B8B-4CD14BF0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26F0E-89E2-4E6C-8FD6-AA5E6DEA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92E-71CF-4127-8DF1-2FF939B1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B852D-1BBC-44A0-A08E-AD41AC19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437DB-7567-407C-B0AE-25F8977D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B5AE5-2775-4656-92FE-89200781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0ACCF-3679-4FF5-9CE3-0B32BD98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FA2C1-646C-4FB0-8DB1-6C2788E3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4898F-AF11-4C8D-995D-49D5533B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ADC8E-23A3-42DA-A790-E43ACC49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70FC1-C899-4B85-B3F0-183779FF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74715-E3FE-429C-9FA9-2E5BDF3A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2E22-E474-4077-B8D2-1FE40CA9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E3E-D993-432F-AD10-3E135B13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4BF-D637-4DBD-83C6-634333DF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E12-EF9F-4A1A-94A1-78924C8E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421-FCA0-40FA-891A-BCBB3165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CEF6-1D1B-429C-AEBD-8F20604BB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F95B-5110-4B2A-BD78-707A2BECAF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D3F5-8382-47F9-BF00-E3D261565A0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6E47-D7F7-4EEA-B066-8081B419BB6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ctob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ch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radio button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little open circle beside something you can select;  You have to click in the circle to place a small back dot showing you have selected that i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4130640"/>
            <a:ext cx="80773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cc: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tands for blind carbon copy; sends a copy of an e-mail message to a second person, but doesn’t allow the first recipient to see the name and address of the secon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ullets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dots beside each item in a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a “bulle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ghosted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hen a button has faded or light gray appearance, meaning it’s inactive, you cannot click on it just t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3182760"/>
            <a:ext cx="56311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rowse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a program you use to surf the internet such as Netscape Communicator or Internet Explor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25146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menu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bar across the top of the window that begins with File, Edit, View...It’s called a Menu Bar because every item on it brings a m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406080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ookmarks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list of web sites you want to visit again.  Some browsers say Favorites instead of Book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774684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etiquett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good manners for Internet and e-mail 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Geneva"/>
              </a:rPr>
              <a:t>hyperlink</a:t>
            </a:r>
            <a:r>
              <a:rPr b="0" lang="en-US" sz="35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neva"/>
              </a:rPr>
              <a:t>something you can click on, can be pictures or text; Remember to only click once on links.  Don’t be a clicking maniac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753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hypertex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eneva"/>
              </a:rPr>
              <a:t>tex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that you can click on, usually underlined and colo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23880" y="2820960"/>
            <a:ext cx="57438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5:53:22Z</dcterms:created>
  <dc:creator>Oneco Elementary User</dc:creator>
  <dc:description/>
  <dc:language>en-US</dc:language>
  <cp:lastModifiedBy>Oneco Elementary User</cp:lastModifiedBy>
  <dcterms:modified xsi:type="dcterms:W3CDTF">2006-09-26T17:02:24Z</dcterms:modified>
  <cp:revision>47</cp:revision>
  <dc:subject/>
  <dc:title>September</dc:title>
</cp:coreProperties>
</file>