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6BD-07E3-43C3-B2D9-EACC8255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524-07B2-42C4-926D-72064196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8F6-B2DC-4973-9FB6-DFAB2A6C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ED1-DC71-484A-A9D0-18D6EA2E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A4B7-9E94-4B03-B0DC-B3C5B06B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FA07-5C3D-417C-BBA0-ABF53223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F598-5F25-44DB-B495-15728405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892B-3FFF-4CDE-8B2C-AD59FC41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8C8D-3E91-43B1-8086-D015F211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6386-A692-41FB-9CB3-BB3E1400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8837-1665-476C-91D6-CC43D47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D3D-FB1E-4931-ACB2-13D5ADF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DD61-F8CF-4E41-B5D1-628353AD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91E4-DA30-47EA-9C2D-41318B0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5D9C-41B1-41CA-8B64-A4864F9B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0095-F962-4BC3-BBBF-B36A8DA1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1C13-9409-4703-8F4E-98EAFC8E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9227-1544-4065-88D6-0EE97C2A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7B33-8713-41ED-B94E-CE5D7B9B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FF9F-0079-45A4-9AD1-85C9F515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1764-06B6-4A30-82B7-D064A86C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F933-D8C3-4FBB-B8DD-95190C35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76F-68C3-4CE6-A1F1-837FDD84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D029E-E70D-44D1-8CB0-3172D4CA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4140-9A89-4DF2-BAF4-78E6D7EA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CAC3-E3E4-48E4-B36F-21EFE412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0EBB-B32A-4197-89E8-A9B3C437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FCDE-1D4D-499C-960B-172F010E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A6C1-4765-48CB-9A62-DB763D73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649A-9136-4C7D-BB75-B0061D4B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1330C-97F8-400E-9479-1A86121F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EF49-BD76-4BB9-B4D8-7C577D52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69F2B-BB66-456A-A297-F88E9BB4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966-6C4A-4C16-8908-54DE3685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849F-3C81-40B6-A058-2ED518CF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ABFEB-C3D4-4BE3-9224-03126B21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3E44-22DF-4BA2-A4F1-239375D1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E48B-BC21-48C1-BCAF-127FE45A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1BBEE-1069-4450-B904-7D2885FD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E5BA-CF94-43FF-9A5D-45EA0B3C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5B46-907C-4ECC-83A7-A0931619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824A-C047-4CEE-B9FB-6B7EB148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C1F5D-8EE7-44AB-8A4E-9A4C0E56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9C8-D8ED-40DB-962F-EE181A96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F8F-4E19-4E4D-85BA-75198666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403-5816-47A1-956E-7715291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D95-5849-4BAC-A685-FEF4F077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FD7-47DB-4D64-B54E-241AD7E7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4047-2110-4A77-9E7A-0BDBB1D00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09BC-21E9-4914-BBC6-C70BD6C47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E0D1-FB25-4471-89DF-04A8AC3C4C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E791-338E-46AA-8C06-920AF8DD49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cto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radio button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ttle open circle beside something you can select;  You have to click in the circle to place a small back dot showing you have selected that i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4130640"/>
            <a:ext cx="80773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cc: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tands for blind carbon copy; sends a copy of an e-mail message to a second person, but doesn’t allow the first recipient to see the name and address of the secon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ullet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dots beside each item in a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a “bull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ghoste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a button has faded or light gray appearance, meaning it’s inactive, you cannot click on it just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3182760"/>
            <a:ext cx="56311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rowse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program you use to surf the internet such as Netscape Communicator or Internet Explor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5146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menu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ar across the top of the window that begins with File, Edit, View...It’s called a Menu Bar because every item on it brings a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40608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bookmarks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list of web sites you want to visit again.  Some browsers say Favorites instead of Book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74684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tiquett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good manners for Internet and e-mail 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yperlink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neva"/>
              </a:rPr>
              <a:t>something you can click on, can be pictures or text; Remember to only click once on links.  Don’t be a clicking maniac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753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yper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neva"/>
              </a:rPr>
              <a:t>tex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that you can click on, usually underlined and colo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23880" y="2820960"/>
            <a:ext cx="57438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26T17:02:24Z</dcterms:modified>
  <cp:revision>47</cp:revision>
  <dc:subject/>
  <dc:title>September</dc:title>
</cp:coreProperties>
</file>