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pct" ContentType="image/x-pict"/>
  <Override PartName="/ppt/media/image5.png" ContentType="image/png"/>
  <Override PartName="/ppt/media/image3.png" ContentType="image/png"/>
  <Override PartName="/ppt/media/image4.pct" ContentType="image/x-pict"/>
  <Override PartName="/ppt/media/image7.png" ContentType="image/png"/>
  <Override PartName="/ppt/media/image6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5384A-BC95-48BC-A7C9-8F19028FF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65AC8-F702-42CE-80AD-A0A8342DE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8244F-8D4A-4136-AF40-82EF97480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DE567-87A0-4EC0-991D-B0BC8BA04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0320E-AF24-4E1A-B58A-F3235BD53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504B7-2489-477B-B98F-3797D14F3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29C30-B994-4462-A926-C01B7537E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F2B9E-4F54-4459-B2C5-EA0EAD884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6D7B6-9B92-4677-8EB6-33B8D293E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C9B85-6863-4F72-BFA3-ED50AEDF9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E59EE-7F33-494B-B597-A55389B73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17FAD-FCB2-4AC8-9993-FD543580C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854DF-9E30-4EEF-AA22-2242E1118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C604B-AF37-4755-97A6-A25D6ED99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0B2F9-3943-4F30-9B36-2A1ECB87E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FF4FA-3BE7-47A0-98FB-39D7FC950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C0379-72B1-4E12-BD28-2C1218F52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A7F5E6-D350-43DD-A0EC-40510B3D3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359B3A-EFED-478C-A056-867EE5E39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1022D1-86DE-494B-93A3-517C31AF5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7C9942-E017-460C-BF4D-BC8B0796B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D01711-A128-40C9-9F2E-B16A31051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FBA19-CA60-4CAA-AB8E-C96161E6C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AAC300-9D63-4B53-BC01-8A3E57506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BE677C-5E72-42B9-9E20-D095C0F16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613BAF-4744-4257-8ED9-E16929D43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47DDCC-F81B-4F5E-BB84-A9D929B3A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29BB83-D182-4245-897B-5B302993B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23804E-7D75-4865-A8B0-40160422E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482B4C-258B-4DC6-AAB0-DAF2E74DB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AD10E7-069A-4BE8-9D7C-184009BBD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139D5B-23EA-492A-B29A-E132B2EE6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B89798-4141-439B-85B8-09F721DE4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20247-4D69-4765-B698-0F1DFEA15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D68D97-C778-4D4D-9DA5-7799863D6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8B1F06-1303-43E8-9106-B4D6B7C94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246037-795A-406D-882F-2203E7FF5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9E46CB-E6C6-4A5A-8243-A50BD4EF7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EDC5D7-C329-4AE5-A242-96F72781E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4BF862-2932-4729-A876-B0A982D72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9DD187-6469-45C4-868D-979CF50EC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C09AC6-B679-44E4-8C8F-B37285549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89E28B-8324-40FC-978D-F7F0783B4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976F2-00CB-4B07-B192-BE2D5F7F4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43E5F-C57D-45E2-85A7-BFDC9A6F7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97DB0-D7FD-4146-B5DF-259C982A8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D47A7-17A2-464A-9145-95D10AFAD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431FD-C5A7-4A2C-B21A-7EACF400F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13163-2E75-400F-8436-DF9CF9BD0F1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71C70-A69B-44FC-9C87-09ADF2674AB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35480" indent="-282960"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1131480" indent="-226080">
              <a:buClr>
                <a:srgbClr val="66cc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584000" indent="-226080">
              <a:buClr>
                <a:srgbClr val="80ff00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2036520" indent="-226080">
              <a:buClr>
                <a:srgbClr val="ffcc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2036520" indent="-226080">
              <a:buClr>
                <a:srgbClr val="ffff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2036520" indent="-226080">
              <a:buClr>
                <a:srgbClr val="ffff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7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8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9"/>
          </p:nvPr>
        </p:nvSpPr>
        <p:spPr>
          <a:xfrm>
            <a:off x="77720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28970-00A8-4D08-8547-006F8170DEA7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dt" idx="10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ftr" idx="11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sldNum" idx="12"/>
          </p:nvPr>
        </p:nvSpPr>
        <p:spPr>
          <a:xfrm>
            <a:off x="77720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6054B-070C-47C7-9C3B-7EB08B264651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45720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2" marL="914400" algn="ctr">
              <a:buClr>
                <a:srgbClr val="66ccff"/>
              </a:buClr>
              <a:buSzPct val="75000"/>
              <a:buFont typeface="Monotype Sorts" charset="2"/>
              <a:buChar char="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3" marL="1371600" algn="ctr">
              <a:buClr>
                <a:srgbClr val="80ff00"/>
              </a:buClr>
              <a:buSzPct val="75000"/>
              <a:buFont typeface="Monotype Sorts" charset="2"/>
              <a:buChar char="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4" marL="1828800" algn="ctr">
              <a:buClr>
                <a:srgbClr val="ffcc66"/>
              </a:buClr>
              <a:buSzPct val="75000"/>
              <a:buFont typeface="Monotype Sorts" charset="2"/>
              <a:buChar char="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October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2436480" y="3885840"/>
            <a:ext cx="4267080" cy="2057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ech Term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Geneva"/>
              </a:rPr>
              <a:t>radio button</a:t>
            </a:r>
            <a:r>
              <a:rPr b="0" lang="en-US" sz="3600" spc="-1" strike="noStrike">
                <a:solidFill>
                  <a:srgbClr val="000000"/>
                </a:solidFill>
                <a:latin typeface="Geneva"/>
              </a:rPr>
              <a:t> 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79246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neva"/>
              </a:rPr>
              <a:t>a little open circle beside something you can select;  You have to click in the circle to place a small back dot showing you have selected that it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685800" y="4130640"/>
            <a:ext cx="8077320" cy="228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Geneva"/>
              </a:rPr>
              <a:t>bcc:</a:t>
            </a:r>
            <a:r>
              <a:rPr b="0" lang="en-US" sz="3600" spc="-1" strike="noStrike">
                <a:solidFill>
                  <a:srgbClr val="000000"/>
                </a:solidFill>
                <a:latin typeface="Geneva"/>
              </a:rPr>
              <a:t> 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neva"/>
              </a:rPr>
              <a:t>stands for blind carbon copy; sends a copy of an e-mail message to a second person, but doesn’t allow the first recipient to see the name and address of the second 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Geneva"/>
              </a:rPr>
              <a:t>bullets</a:t>
            </a:r>
            <a:r>
              <a:rPr b="0" lang="en-US" sz="3600" spc="-1" strike="noStrike">
                <a:solidFill>
                  <a:srgbClr val="000000"/>
                </a:solidFill>
                <a:latin typeface="Geneva"/>
              </a:rPr>
              <a:t> 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eneva"/>
              </a:rPr>
              <a:t>dots beside each item in a lis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at is a “bullet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1143000" y="2666880"/>
            <a:ext cx="27432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Geneva"/>
              </a:rPr>
              <a:t>ghosted</a:t>
            </a:r>
            <a:r>
              <a:rPr b="0" lang="en-US" sz="3600" spc="-1" strike="noStrike">
                <a:solidFill>
                  <a:srgbClr val="000000"/>
                </a:solidFill>
                <a:latin typeface="Geneva"/>
              </a:rPr>
              <a:t> 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neva"/>
              </a:rPr>
              <a:t>when a button has faded or light gray appearance, meaning it’s inactive, you cannot click on it just th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1523880" y="3182760"/>
            <a:ext cx="5631120" cy="306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Geneva"/>
              </a:rPr>
              <a:t>browser</a:t>
            </a:r>
            <a:r>
              <a:rPr b="0" lang="en-US" sz="3600" spc="-1" strike="noStrike">
                <a:solidFill>
                  <a:srgbClr val="000000"/>
                </a:solidFill>
                <a:latin typeface="Geneva"/>
              </a:rPr>
              <a:t> 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09480" y="1219320"/>
            <a:ext cx="77724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eneva"/>
              </a:rPr>
              <a:t>a program you use to surf the internet such as Netscape Communicator or Internet Explor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3581280" y="3581280"/>
            <a:ext cx="2514600" cy="22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467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Geneva"/>
              </a:rPr>
              <a:t>menu bar</a:t>
            </a:r>
            <a:r>
              <a:rPr b="0" lang="en-US" sz="3600" spc="-1" strike="noStrike">
                <a:solidFill>
                  <a:srgbClr val="000000"/>
                </a:solidFill>
                <a:latin typeface="Geneva"/>
              </a:rPr>
              <a:t>  -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07696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neva"/>
              </a:rPr>
              <a:t>the bar across the top of the window that begins with File, Edit, View...It’s called a Menu Bar because every item on it brings a men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2514600" y="3276720"/>
            <a:ext cx="4060800" cy="32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Geneva"/>
              </a:rPr>
              <a:t>bookmarks</a:t>
            </a:r>
            <a:r>
              <a:rPr b="0" lang="en-US" sz="3600" spc="-1" strike="noStrike">
                <a:solidFill>
                  <a:srgbClr val="000000"/>
                </a:solidFill>
                <a:latin typeface="Geneva"/>
              </a:rPr>
              <a:t> 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neva"/>
              </a:rPr>
              <a:t>a list of web sites you want to visit again.  Some browsers say Favorites instead of Bookmark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990720" y="3048120"/>
            <a:ext cx="774684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Geneva"/>
              </a:rPr>
              <a:t>netiquette</a:t>
            </a:r>
            <a:r>
              <a:rPr b="0" lang="en-US" sz="3600" spc="-1" strike="noStrike">
                <a:solidFill>
                  <a:srgbClr val="000000"/>
                </a:solidFill>
                <a:latin typeface="Geneva"/>
              </a:rPr>
              <a:t> 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eneva"/>
              </a:rPr>
              <a:t>good manners for Internet and e-mail us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 u="sng">
                <a:solidFill>
                  <a:srgbClr val="000000"/>
                </a:solidFill>
                <a:uFillTx/>
                <a:latin typeface="Geneva"/>
              </a:rPr>
              <a:t>hyperlink</a:t>
            </a:r>
            <a:r>
              <a:rPr b="0" lang="en-US" sz="3500" spc="-1" strike="noStrike">
                <a:solidFill>
                  <a:srgbClr val="000000"/>
                </a:solidFill>
                <a:latin typeface="Geneva"/>
              </a:rPr>
              <a:t> -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Geneva"/>
              </a:rPr>
              <a:t>something you can click on, can be pictures or text; Remember to only click once on links.  Don’t be a clicking maniac!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2057400" y="3124080"/>
            <a:ext cx="4753080" cy="311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Geneva"/>
              </a:rPr>
              <a:t>hypertext</a:t>
            </a:r>
            <a:r>
              <a:rPr b="0" lang="en-US" sz="3600" spc="-1" strike="noStrike">
                <a:solidFill>
                  <a:srgbClr val="000000"/>
                </a:solidFill>
                <a:latin typeface="Geneva"/>
              </a:rPr>
              <a:t> 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Geneva"/>
              </a:rPr>
              <a:t>text</a:t>
            </a:r>
            <a:r>
              <a:rPr b="0" lang="en-US" sz="3600" spc="-1" strike="noStrike">
                <a:solidFill>
                  <a:srgbClr val="000000"/>
                </a:solidFill>
                <a:latin typeface="Geneva"/>
              </a:rPr>
              <a:t> that you can click on, usually underlined and colore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1523880" y="2820960"/>
            <a:ext cx="5743800" cy="35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9T15:53:22Z</dcterms:created>
  <dc:creator>Oneco Elementary User</dc:creator>
  <dc:description/>
  <dc:language>en-US</dc:language>
  <cp:lastModifiedBy>Oneco Elementary User</cp:lastModifiedBy>
  <dcterms:modified xsi:type="dcterms:W3CDTF">2006-09-26T17:02:24Z</dcterms:modified>
  <cp:revision>47</cp:revision>
  <dc:subject/>
  <dc:title>September</dc:title>
</cp:coreProperties>
</file>