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430-5454-48D7-9AB3-A0042F4D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9CE-3DD1-4B4A-9BEE-B4D1192D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422-0F57-44B6-9DAB-997174DB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E1F-91BA-4DA5-A5D0-7987C2EA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F7A7-AF0F-4D4B-A4A1-C46C8A14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926C-5703-4334-8C23-DE914469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3296-5BC6-4DA9-8CB2-282A1B3A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E9EA-0C47-4D49-89B0-796A36E5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FCD5-23A2-4E82-AD64-7241AEB3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D5CF-162D-40D0-A5ED-02F1A9C4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20E2-4F7C-44D8-AD9B-BFDC318C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67A-5F6A-4A57-9ECF-32F040C4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09EA-0FA4-419B-87F1-31062C1D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D71E-68D2-4165-B216-39A21D1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0209-B303-4D9F-B1CA-5A07B3B0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2447-1943-428E-B4AA-C62D9D4A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6858-9757-49FA-A728-AEE75ECB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B7532-B7AD-4EA0-A068-55BA7835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ECEA0-B94E-4E72-AE4E-6C4094F9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3088-1CAE-4F49-AE22-FE87D272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3AB2-4391-4E4B-B313-80E53E9F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24E85-DD5E-4C65-9F0A-F6B337ED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7DD-D120-444B-97BA-78A7EECA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ADA4-6C18-4515-9303-7AC7A7D3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72BC-658B-4DB1-9CAF-42DA93B3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02BEE-3A2C-4A4F-B5CD-1FBB173F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59F1-092F-47B0-B1A4-A49D858B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875C-E968-4851-B213-6F36ED9C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2DAA4-5BCF-4420-A6A6-D882D4D7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DC666-8B37-49F7-931B-B41B6079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6AC3-85C3-473C-95C8-86C1D21A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EFFDD-6FC6-4B07-BD07-DAAECF0C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4FD0A-8057-4B30-B795-C8440C1B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047-D00B-41B4-B7EB-DB9C0636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3B5A-C356-422D-B905-2F9DDC2A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E5E0E-E596-4E63-8F4C-90682DEB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96E9-2E18-42C0-B949-1258EF63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7CBCC-8847-432A-99F9-6CBF1D05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2EE57-F365-4E38-B056-4A4E356F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FBE32-4296-442D-84F2-7F2D09AB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3F333-A028-44A3-8CB2-93386B57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CA64C-605F-4038-B8A5-A3239F32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93DA-31BE-47DB-BFE8-C0E5A552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1C7-7555-43BB-8BDA-21628AC5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CF0-9B59-4BB8-B9FF-C1833B8D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4D7-DEB0-47E0-8C46-FFC76C60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367-7F8C-4077-B820-3604A576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FA6-C902-48BD-9A9F-FAA838B9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D4A-1029-4A9E-8C73-A345C9757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CD79-817B-41EB-BD6A-D696CE43B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714F-D8F1-4830-BBCD-2CCDCB70A83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40E1-417F-42C7-83E1-8AA7D36C46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ctob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ch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radio button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little open circle beside something you can select;  You have to click in the circle to place a small back dot showing you have selected that i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4130640"/>
            <a:ext cx="80773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cc: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tands for blind carbon copy; sends a copy of an e-mail message to a second person, but doesn’t allow the first recipient to see the name and address of the secon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ullets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dots beside each item in a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a “bull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ghosted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hen a button has faded or light gray appearance, meaning it’s inactive, you cannot click on it just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3182760"/>
            <a:ext cx="56311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rowse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a program you use to surf the internet such as Netscape Communicator or Internet Explor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5146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menu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bar across the top of the window that begins with File, Edit, View...It’s called a Menu Bar because every item on it brings a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40608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ookmarks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list of web sites you want to visit again.  Some browsers say Favorites instead of Book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74684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etiquett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good manners for Internet and e-mail 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Geneva"/>
              </a:rPr>
              <a:t>hyperlink</a:t>
            </a:r>
            <a:r>
              <a:rPr b="0" lang="en-US" sz="35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neva"/>
              </a:rPr>
              <a:t>something you can click on, can be pictures or text; Remember to only click once on links.  Don’t be a clicking maniac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753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hypertex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neva"/>
              </a:rPr>
              <a:t>tex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that you can click on, usually underlined and colo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23880" y="2820960"/>
            <a:ext cx="57438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5:53:22Z</dcterms:created>
  <dc:creator>Oneco Elementary User</dc:creator>
  <dc:description/>
  <dc:language>en-US</dc:language>
  <cp:lastModifiedBy>Oneco Elementary User</cp:lastModifiedBy>
  <dcterms:modified xsi:type="dcterms:W3CDTF">2006-09-26T17:02:24Z</dcterms:modified>
  <cp:revision>47</cp:revision>
  <dc:subject/>
  <dc:title>September</dc:title>
</cp:coreProperties>
</file>