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pct" ContentType="image/x-pict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E3C-B333-41E7-BB7D-1D0FCC91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F76-57B6-4299-A26F-5B43ABB2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EF9-FC8F-4670-A2EF-419857A9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934-CB06-4068-A805-5A923A5F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03B4-DA6D-43FB-AC65-AB3AC888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C7F1-CDAE-4935-B951-97B1179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B92B-72CB-4364-BF13-5427CF8C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2D6C-C7E3-42E6-8A7C-5206ED93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A819-E2CC-4842-A81F-66CFB457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567A-4C20-466D-87B9-28FB704D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4F29-3D8B-48FE-B541-88B50457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479-9098-43F6-B360-0A41B7F3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AE13-9B56-4484-A0A8-09521833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862C-A04B-41E2-B2F7-F2E11F1E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C75C-DB0B-43C7-8BD5-DE9D845E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67A9-F779-4966-8B42-C8D9EB63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B358-258C-451B-8DDA-8AAB60BF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5CB3-DDC7-4040-8001-D6B4E041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E1C8-87A3-4080-8864-34D04D8F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09B56-D842-486A-81C5-EE846915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63D9-9D0F-462C-A8A2-52BC1EF8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FEDF-1784-496F-A1D0-E968513B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41D-D130-4D9D-B980-3A8130EB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DAA2-0C02-4D8C-B792-F0BF255D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A985-53AF-4AB7-9490-C649E6A7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0968-8DB6-4144-89F8-6D5A53D8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CBB0-9823-43AC-AC6D-02BCBEBC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0BD9-CED7-4810-B16C-DAE53875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079D-B7A2-4401-9A8B-5368FC54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0A9F-85FF-4CF5-A01B-10282E80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80AF7-9CF1-47B3-BF37-FF4A9A4E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D537-5E93-4FCF-859C-760DB571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38A9-B60F-41D1-8C34-184B6813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D42-20E7-4E71-9C1E-64AC3AAB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C6E8-D258-458B-9194-706C100D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ED85-7490-4C40-B36D-88F8A7F5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B5D3F-976C-42FB-83C5-E79CCEA2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018C-A1A1-4F8C-A29E-5C285681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60F9D-FB77-445F-95D6-273B55E5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CC77-59FA-4462-8B4B-F87B4E55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FDF9-4E4D-49D9-A6B0-DEECDA01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ACB42-2440-4308-9EBF-8ADFDDA3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847E-D493-4EA0-9C34-D54EEA47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EA3-165E-4115-8E4D-E54B01D7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A66-5489-4ACB-9E28-DB0A6146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843-CBB5-480B-9DF1-B097477E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528-51FA-4B8A-8954-D5653551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376-5522-4712-B865-FA39EB3E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217B-8571-4545-B00C-6541F3C1A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59EE-DC34-404B-B0FF-FD02653F1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058B-9EC0-477E-A958-D9B839DBF4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0E6D-883C-48B3-8B01-CC6D034D7D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ch Ter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itle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blue strip across the top of a program’s window; it tells you what you are work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 Drive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part of your computer that a floppy disk goes 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o save something to a disk you must save it to drive “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5120" y="321948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 Drive or hard dr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 hard drive, it is the computer’s main storage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t is found inside the computer c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hen something is saved to the c drive it remains on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computer, you must be at the computer to retrieve that saved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 save something to that particular computer, save it to a folder on your C: Drive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Geneva"/>
              </a:rPr>
              <a:t>CD/RW drive</a:t>
            </a:r>
            <a:r>
              <a:rPr b="0" lang="en-US" sz="34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 drive that will not only let you play CDs, but save to CDs - called burning to a C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t looks like an ordinary CD drive.  Some can save, burn, more quickly than others.  Compare the speed such as 24X or 54X.  Higher numbers indicate faster reading or burn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 (compact disk recordable) allows you to burn information to a blank CD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once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CD-RW (compact disk rewritable)  allows you to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repeatedly burn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information to the disks.</a:t>
            </a:r>
            <a:r>
              <a:rPr b="0" lang="en-US" sz="2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3276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ewbi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A beginner who is unfamiliar with computers and the intern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1714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hard boot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Using the power button to turn your computer off and on without going through the proper steps such as Special shut-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(D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do this.  If your computer is frozen, raise your hand and ask Mrs. Smith for hel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424800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tool bar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row of buttons across the top of your browser window that includes the Back Button, Home Button, Stop Button...; other programs can offer tool bars al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oolbars display buttons you can click to easily access helpful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44197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address book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n area for storing e-mail addresses; allows you to quickly send e-mail without having to remember long addresses; usually has a place to store additional info such as phone numbers, birthdays, nicknam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optical mouse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mouse that uses a laser to track movement instead of a ball and wheels inside the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numeric keypad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group of number keys found on the side of a keyboard.  Pressing the Num Lock key turns the numeric feature off/on.  An indicator light above the keypad shows whether it is on or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 rot="5382600">
            <a:off x="2788920" y="3859200"/>
            <a:ext cx="33480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Geneva"/>
              </a:rPr>
              <a:t>highlight</a:t>
            </a:r>
            <a:r>
              <a:rPr b="0" lang="en-US" sz="3500" spc="-1" strike="noStrike">
                <a:solidFill>
                  <a:srgbClr val="000000"/>
                </a:solidFill>
                <a:latin typeface="Geneva"/>
              </a:rPr>
              <a:t> 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To surround something with color by clicking and dragging over it;  highlighting indicates you are going to work with whatever you selected or highlight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If something is highlighted with a flashing insertion point (line) at the end of it you can begin typing and the old will be replaced with the new information you type, no need to backspa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neva"/>
              </a:rPr>
              <a:t>Use highlight to cut, copy, and paste th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4952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neva"/>
              </a:rPr>
              <a:t>case sensitive -</a:t>
            </a: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t matters if it is capital or lower case; as in typing an e-mail address, letters must be typed correc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5:53:22Z</dcterms:created>
  <dc:creator>Oneco Elementary User</dc:creator>
  <dc:description/>
  <dc:language>en-US</dc:language>
  <cp:lastModifiedBy>Oneco Elementary User</cp:lastModifiedBy>
  <dcterms:modified xsi:type="dcterms:W3CDTF">2006-09-05T14:44:26Z</dcterms:modified>
  <cp:revision>28</cp:revision>
  <dc:subject/>
  <dc:title>September</dc:title>
</cp:coreProperties>
</file>