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pct" ContentType="image/x-pict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995-A49C-4287-B21A-4A59D6F4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4C8-025A-43D4-B44D-36AE41CC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E2F-6A97-4279-9D15-FCC96CD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FE9-484A-49DF-B770-CC0C7F67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33B3-DDA2-45AC-8835-378322BC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BD1C-A042-493C-A5D1-350B9DF6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5552-5291-4CFF-A7AC-21B52BE7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9F64-E839-4E19-9BFF-0489A2F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E6DE-D0BC-43E3-BA1B-608EC042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764F-DDCC-4A91-8CCD-B29DEDF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3AE3-B46C-4408-A733-BD7229C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EDB-9262-48DF-B7E3-0074D1AF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D722-A34E-4081-84CE-E3712C1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111D-F9B6-4E9E-A842-816D2FFA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A5A2-0A03-4C20-90EB-2C1504D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BB7-7D1A-45EF-9E0F-30298FFB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1F55-84B3-4973-81FC-22BD3183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1319-B56F-4779-AEFE-8008DA7F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29B3-FF4F-4B75-8B24-A5B41B8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04CB-242A-455B-B532-7CC4143F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8ADD-C50F-437B-BD38-0C8D59F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F65A-AA57-407A-9ACB-C9E5B12B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81A-3456-4045-A57C-C04DA33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D4B5-A653-48F4-911C-EF2C05E3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6936-6BF3-4D11-9D33-2614457A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C799-D402-4D0B-AF44-585AF7B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8B81-5AEB-4710-9292-24F986E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7EAF-77DF-423D-AB5C-CC5E9F54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B319-D655-47FA-A416-B841D9D6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0699-C317-45C5-9E18-7E0046C5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A1F9-2315-494F-99DF-9DEB74C4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5337-354F-4CC7-B75F-AC615DAA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B7F3-6D6D-4A71-BAA3-7144E94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5D3-FDF3-45DD-A761-D2D2E61C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96DA-A8A6-47F5-BCAA-D6234B46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0620-F7E9-4043-BC3B-0EF9620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DCF0-917A-4FED-8E4B-3645251C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8298-D390-4AA6-B04E-146D470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BC10-A510-487E-B2B3-DBD8858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A5FE-6CAA-4B77-B0F9-2F133323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2E1C-D3BD-436B-BA9F-C5CA940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BD7A-F079-45A3-98A5-167FC6B7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DCC7-987A-4AF8-8058-F4E25CE3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74C-068F-473B-9D74-43A330E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7FD-EFEB-44D2-A96A-1C02A4F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3C2-C206-4C0A-A2D6-6DD2A2E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481-2E0C-4874-855F-858A65F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7CA-5DED-458A-B010-DF20C0D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388B-D47A-47CD-88E7-DB1EE2185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50B-9E47-4863-BA6C-22F681DA6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2F6-2ED7-456F-94F6-5FB59E8853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05E4-EED0-4E26-8B30-23AE92ABC6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itle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lue strip across the top of a program’s window; it tells you what you are work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 Driv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part of your computer that a floppy disk goes 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save something to a disk you must save it to drive “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32194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 Drive or hard dr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hard drive, it is the computer’s main storage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found inside the computer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something is saved to the c drive it remains on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computer, you must be at the computer to retrieve that saved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 save something to that particular computer, save it to a folder on your C: Drive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neva"/>
              </a:rPr>
              <a:t>CD/RW drive</a:t>
            </a:r>
            <a:r>
              <a:rPr b="0" lang="en-US" sz="34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 drive that will not only let you play CDs, but save to CDs - called burning to a C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t looks like an ordinary CD drive.  Some can save, burn, more quickly than others.  Compare the speed such as 24X or 54X.  Higher numbers indicate faster reading or bur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 (compact disk recordable) allows you to burn information to a blank CD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W (compact disk rewritable)  allows you to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repeatedly burn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information to the disks.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3276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wbi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beginner who is unfamiliar with computers and the inter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714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ard boo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Using the power button to turn your computer off and on without going through the proper steps such as Special shut-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(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do this.  If your computer is frozen, raise your hand and ask Mrs. Smith for he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42480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ool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row of buttons across the top of your browser window that includes the Back Button, Home Button, Stop Button...; other programs can offer tool bars al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olbars display buttons you can click to easily access helpful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44197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ddress book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n area for storing e-mail addresses; allows you to quickly send e-mail without having to remember long addresses; usually has a place to store additional info such as phone numbers, birthdays, nickna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optical mous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mouse that uses a laser to track movement instead of a ball and wheels inside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umeric keypa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group of number keys found on the side of a keyboard.  Pressing the Num Lock key turns the numeric feature off/on.  An indicator light above the keypad shows whether it is on or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5382600">
            <a:off x="2788920" y="3859200"/>
            <a:ext cx="33480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ighlight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To surround something with color by clicking and dragging over it;  highlighting indicates you are going to work with whatever you selected or highligh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If something is highlighted with a flashing insertion point (line) at the end of it you can begin typing and the old will be replaced with the new information you type, no need to backsp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Use highlight to cut, copy, and paste th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4952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ase sensit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t matters if it is capital or lower case; as in typing an e-mail address, letters must be typed correc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05T14:44:26Z</dcterms:modified>
  <cp:revision>28</cp:revision>
  <dc:subject/>
  <dc:title>September</dc:title>
</cp:coreProperties>
</file>