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pct" ContentType="image/x-pict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F976-C99D-4003-8A5F-B883CD07E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15BC-42D9-42A5-A643-5F4DE249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F321-B7D2-46F3-B8CC-F3697CA38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A58F-EF0A-45C8-832D-EB5591558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C95D-7F09-46E6-8346-88CFC02AF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43F3-40E7-49FD-A7CF-D1D8A997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206A-9FB0-41F0-83E7-0671AB77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AA04-9C69-4DE7-B1C9-9359889C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ABED-CB8A-4AD5-AD70-40473217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EA9C0-E26E-4272-AAB3-2BBE7B49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5C103-9E0C-4585-BB05-1A8225BB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661B-3379-4BB3-9B99-D6D2136D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C9BA-5B77-4459-ADDD-147609F7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C8EF-C4D9-4ACB-81B3-227F5F3F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4FF4-C243-46F6-BC86-E5C7FBDE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CA4E-D00D-4BE3-9CAC-45F9B00C2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B1CC-51CA-44FF-8EB1-3C4970F09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3BD67-DE00-4530-B05D-DDDDB283F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C61F9-2B5C-4756-9384-ECF369B6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DA6A3-F3B8-4F5C-9C76-D904FE2A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42DAD-2F7A-455A-A064-D0AB166A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918DD-9C8B-4DF0-9988-B5C2F215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DC9C-05C9-4541-8FF1-969CF5E9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06385-9EDF-4B9B-8360-BDD70029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AD700-D5E1-44E9-A77D-3D2088CD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DC96D-07E5-45DC-8FE7-A1EC62E5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D2621-D009-4576-9E06-DA4A16E2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F6D32-5DD8-4F29-8CF1-73D3D3EA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2A766-FB65-440F-814E-E8CE76C37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A0B90-5D43-4CF0-B83C-5DB429BC3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AB883-7B2B-4214-8433-0A7FB0AC0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DBB16-4325-44E8-8983-168760A1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4BB76-E4C7-4379-ABC7-9F1EEFCD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68F4-1DC1-4E41-AEA2-09AF3317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8644C-5F10-4838-8E72-D644D912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68C92-142C-4BAD-B4F1-737DEEF0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59D21-6778-48EE-A6A6-E365C883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8A489-3108-4AD8-82BB-5B5773C7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6812C-A155-44CD-8B43-75BAA17E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27A53-1D35-4E78-A1E8-BDE01DC3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95A85-7E07-403C-96CC-D0D9D57A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9741A-EFE9-438F-8948-BA1F340DD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34BF6-905D-46E8-887C-F64686F6C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CED5-C9F6-47C8-A855-F88CAEB2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98FA-FECF-469A-B1BD-2D4B8FEE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3280-4DD7-4C33-872A-43F1A3B3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A479-F3F3-41D3-8694-60ACABD9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C8FE-5B4C-4BC7-A35B-50E6BB7C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59EC-8690-4605-BAC5-B09CA80FC9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56FD-9678-48DE-933B-A4AA342E02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AAC2-E20C-41E6-96AC-C0AC3476BA0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96ED-1BE1-4A46-B5DF-824B001D22B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eptember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436480" y="3885840"/>
            <a:ext cx="426708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ech Term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title bar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The blue strip across the top of a program’s window; it tells you what you are working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905120" y="2819520"/>
            <a:ext cx="47750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A Drive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The part of your computer that a floppy disk goes i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to save something to a disk you must save it to drive “A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905120" y="3219480"/>
            <a:ext cx="464796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C Drive or hard drive -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The hard drive, it is the computer’s main storage are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It is found inside the computer ca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When something is saved to the c drive it remains on </a:t>
            </a:r>
            <a:r>
              <a:rPr b="0" i="1" lang="en-US" sz="3200" spc="-1" strike="noStrike">
                <a:solidFill>
                  <a:srgbClr val="000000"/>
                </a:solidFill>
                <a:latin typeface="Geneva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 computer, you must be at the computer to retrieve that saved docu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To save something to that particular computer, save it to a folder on your C: Drive</a:t>
            </a: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00"/>
                </a:solidFill>
                <a:uFillTx/>
                <a:latin typeface="Geneva"/>
              </a:rPr>
              <a:t>CD/RW drive</a:t>
            </a:r>
            <a:r>
              <a:rPr b="0" lang="en-US" sz="3400" spc="-1" strike="noStrike">
                <a:solidFill>
                  <a:srgbClr val="000000"/>
                </a:solidFill>
                <a:latin typeface="Geneva"/>
              </a:rPr>
              <a:t> -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 drive that will not only let you play CDs, but save to CDs - called burning to a C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It looks like an ordinary CD drive.  Some can save, burn, more quickly than others.  Compare the speed such as 24X or 54X.  Higher numbers indicate faster reading or burning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CD-R (compact disk recordable) allows you to burn information to a blank CD </a:t>
            </a:r>
            <a:r>
              <a:rPr b="0" i="1" lang="en-US" sz="2000" spc="-1" strike="noStrike">
                <a:solidFill>
                  <a:srgbClr val="000000"/>
                </a:solidFill>
                <a:latin typeface="Geneva"/>
              </a:rPr>
              <a:t>once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CD-RW (compact disk rewritable)  allows you to </a:t>
            </a:r>
            <a:r>
              <a:rPr b="0" i="1" lang="en-US" sz="2000" spc="-1" strike="noStrike">
                <a:solidFill>
                  <a:srgbClr val="000000"/>
                </a:solidFill>
                <a:latin typeface="Geneva"/>
              </a:rPr>
              <a:t>repeatedly burn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 information to the disks.</a:t>
            </a:r>
            <a:r>
              <a:rPr b="0" lang="en-US" sz="26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962520" y="3962520"/>
            <a:ext cx="32763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newbie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A beginner who is unfamiliar with computers and the interne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733920" y="3733920"/>
            <a:ext cx="17143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hard boot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Using the power button to turn your computer off and on without going through the proper steps such as Special shut-dow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(D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eneva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 do this.  If your computer is frozen, raise your hand and ask Mrs. Smith for hel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666880" y="4248000"/>
            <a:ext cx="287028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tool bar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The row of buttons across the top of your browser window that includes the Back Button, Home Button, Stop Button...; other programs can offer tool bars also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Toolbars display buttons you can click to easily access helpful to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057400" y="3581280"/>
            <a:ext cx="441972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address book -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86104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an area for storing e-mail addresses; allows you to quickly send e-mail without having to remember long addresses; usually has a place to store additional info such as phone numbers, birthdays, nicknames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752480" y="3200400"/>
            <a:ext cx="533412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optical mouse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A mouse that uses a laser to track movement instead of a ball and wheels inside the m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3520" y="3124080"/>
            <a:ext cx="3886200" cy="2914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876920" y="3124080"/>
            <a:ext cx="388620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numeric keypad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The group of number keys found on the side of a keyboard.  Pressing the Num Lock key turns the numeric feature off/on.  An indicator light above the keypad shows whether it is on or o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 rot="5382600">
            <a:off x="2788920" y="3859200"/>
            <a:ext cx="3348000" cy="23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000000"/>
                </a:solidFill>
                <a:uFillTx/>
                <a:latin typeface="Geneva"/>
              </a:rPr>
              <a:t>highlight</a:t>
            </a:r>
            <a:r>
              <a:rPr b="0" lang="en-US" sz="35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neva"/>
              </a:rPr>
              <a:t>To surround something with color by clicking and dragging over it;  highlighting indicates you are going to work with whatever you selected or highlighte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Geneva"/>
              </a:rPr>
              <a:t>If something is highlighted with a flashing insertion point (line) at the end of it you can begin typing and the old will be replaced with the new information you type, no need to backspac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Geneva"/>
              </a:rPr>
              <a:t>Use highlight to cut, copy, and paste thing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905120" y="4038480"/>
            <a:ext cx="495288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case sensitive -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It matters if it is capital or lower case; as in typing an e-mail address, letters must be typed correct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15:53:22Z</dcterms:created>
  <dc:creator>Oneco Elementary User</dc:creator>
  <dc:description/>
  <dc:language>en-US</dc:language>
  <cp:lastModifiedBy>Oneco Elementary User</cp:lastModifiedBy>
  <dcterms:modified xsi:type="dcterms:W3CDTF">2006-09-05T14:44:26Z</dcterms:modified>
  <cp:revision>28</cp:revision>
  <dc:subject/>
  <dc:title>September</dc:title>
</cp:coreProperties>
</file>