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pct" ContentType="image/x-pict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12B-C138-4125-A846-EBD79BCC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E1F-0901-4B32-B2B3-0140DB73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47F-3E74-40D8-9E4F-94158665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E9B-030D-4E54-A19C-7AC2A33D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C426-3459-4FE6-915C-8EAD4A48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C97C-E383-41DA-AD55-08DD9CC1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B85C-820B-4F62-BB00-82096E4F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83D3-A9F2-4896-AF6D-AFA26938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708-F88E-46EF-8042-D49E16AD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E4EF-9328-48EB-BAC3-938E23C0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9A4B-1CB7-4986-AFA3-F30F12D9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1C2-5A72-4FDA-B4CF-E8A2E6D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71B5-6CDF-4314-B086-8F8BB6B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8B2E-0BD9-4EB8-98D1-4B8AFD3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334B-2BA6-4A12-9B1C-16BB66C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9AC-6E3F-4C32-BDE7-B508D750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10DF-E46F-4A6B-8FD5-76521274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2A72-EC4A-4625-8505-9D45E83E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4E37-AACE-4F89-AB1A-1373189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7410-6505-4D49-83F3-415887E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CAF5-783F-43AC-9CDE-3F30D66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413B-5B3E-47F3-8B81-C0302097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F63-41C5-4D38-A71C-C6A6E41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F356-970C-401A-841E-9A82B74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CA12-1928-47D0-B563-4BA3031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D9D0-AE50-45DB-A26E-9E80AAF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9D90-0787-4B3C-814A-FDB33F4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56D4-1EE2-4C7D-99B3-445AAB09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1344-241A-40A2-8895-5CEE0B6C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7453-0D08-46AB-8C37-C9D482D2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3F82-A1CA-41B5-845B-4AD91CF8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BF467-50E9-4114-9A08-9472A90C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7D5C-13FE-4326-B903-8510509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06E-75EF-4D15-9DA3-0BFCFD6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DD01-EAC2-4276-842B-AEA3EF79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CACB-3F54-4F7D-A642-5C3706DA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3882-FF7F-43EC-B0DD-217BB35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CDC0-5167-440A-948F-5169A0E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9DEC-8DF9-4D77-92BD-A1CA15E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8FE7-2A28-42B1-96D7-5D50712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2496-66B6-4EA6-B554-7C8C73DF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B364-4898-4431-A88C-6578020A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8AE4-BF21-43F7-B8B3-DB9A0217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1B9-A182-4E1E-84E4-F0DD1E0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BFD-032E-4259-8CB6-9E48D65A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2C4-B8FF-4861-9037-D1DC2E5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747-5E82-47B2-A70E-1FAAF5A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325-A0FE-4CFF-B71A-6A9D3DA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82AE-7E6E-4060-861B-EF6B1A109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DD88-89B9-4D3A-9CE5-920A4DBFA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D19-2F81-43DF-9A0A-BDE7466272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DC8-6FE5-420B-BF05-67C087BD3B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itle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lue strip across the top of a program’s window; it tells you what you are work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 Driv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part of your computer that a floppy disk goes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save something to a disk you must save it to drive “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32194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 Drive or hard dr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hard drive, it is the computer’s main storage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found inside the computer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something is saved to the c drive it remains on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computer, you must be at the computer to retrieve that saved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 save something to that particular computer, save it to a folder on your C: Drive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neva"/>
              </a:rPr>
              <a:t>CD/RW drive</a:t>
            </a:r>
            <a:r>
              <a:rPr b="0" lang="en-US" sz="34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drive that will not only let you play CDs, but save to CDs - called burning to a C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t looks like an ordinary CD drive.  Some can save, burn, more quickly than others.  Compare the speed such as 24X or 54X.  Higher numbers indicate faster reading or bur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 (compact disk recordable) allows you to burn information to a blank CD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W (compact disk rewritable)  allows you to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repeatedly bur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formation to the disks.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3276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wbi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beginner who is unfamiliar with computers and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ard boo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Using the power button to turn your computer off and on without going through the proper steps such as Special shut-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(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do this.  If your computer is frozen, raise your hand and ask Mrs. Smith for he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42480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ool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row of buttons across the top of your browser window that includes the Back Button, Home Button, Stop Button...; other programs can offer tool bars al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olbars display buttons you can click to easily access helpful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4419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ddress book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n area for storing e-mail addresses; allows you to quickly send e-mail without having to remember long addresses; usually has a place to store additional info such as phone numbers, birthdays, nickna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optical mous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mouse that uses a laser to track movement instead of a ball and wheels inside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umeric keypa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group of number keys found on the side of a keyboard.  Pressing the Num Lock key turns the numeric feature off/on.  An indicator light above the keypad shows whether it is on or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5382600">
            <a:off x="2788920" y="3859200"/>
            <a:ext cx="3348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ighlight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To surround something with color by clicking and dragging over it;  highlighting indicates you are going to work with whatever you selected or highligh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If something is highlighted with a flashing insertion point (line) at the end of it you can begin typing and the old will be replaced with the new information you type, no need to back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Use highlight to cut, copy, and paste th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ase sensit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t matters if it is capital or lower case; as in typing an e-mail address, letters must be typed correc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05T14:44:26Z</dcterms:modified>
  <cp:revision>28</cp:revision>
  <dc:subject/>
  <dc:title>September</dc:title>
</cp:coreProperties>
</file>