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pct" ContentType="image/x-pict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264-B409-4576-9E04-20CC13ED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AE9-A69B-4C92-8B45-CDFB69D2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125-14B5-49BC-831C-35D070AA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0DF-AE48-4B8C-A921-371FB42F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CF11-5B41-4846-9019-A80838B5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1407-282D-4BC1-B0B7-BF582796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E038-F6EC-44CB-B7B1-FA7E994D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B020-D25B-475F-B4C6-145004EB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90BF-6B91-49E4-80DD-43FCCB2E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44E6-C082-40D8-B152-10F3E089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5B99-F1B4-4AA5-8DF7-05BC8764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E5A-B4C4-48FF-BB0C-1AD1EFE9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7A94-67F3-4A5F-A7C5-0144D9C0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1AFE-4AAB-4ED4-947E-3678FE6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46CC-1C0B-4F3C-8AA1-F841096C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F1F-F6BD-4453-88A0-3BABE917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5A3A-B5F5-405C-AB37-0DE6A7B6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F3A8-0416-47CE-8898-AC80E99A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48F4-49FD-48C0-B0D8-BEACEE4B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2A87-565C-41E9-9524-2E6AEDE5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CDB3-45FD-4288-83AA-DE5B56DD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809D-499D-4F07-B68F-A793E0AC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758-5239-4D2C-916F-C1C99D27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1A0A-A96E-46AD-9B19-C96E914F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9846F-7F02-45CA-AF4D-F0F5247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B21B-C596-4457-9BBA-19427F06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AD1D-13B8-4C8B-A12E-488BC9B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7884-CDA3-407C-B5E1-41C4EE9F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AEAE-C5A0-4F60-9CE2-28F6DCBC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EF3D-B052-4D39-8825-EE81651D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E3A3-70BC-4E6E-8EAC-ECCD2B28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B4B2F-3DB5-4315-B622-9A18E517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B13ED-0833-4EB8-B0E4-E4F47C0E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29E-8DDB-403B-9FA5-E7BDDD22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23FAA-62B0-4B66-933B-745A75C0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913B-374F-4A0D-BCDD-0E97213D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3B34-EBE7-4BD4-9460-2B9F6C4B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1834-9A6B-4BEF-B4B7-E5FA5CC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B5244-B2BE-4FC6-A2C6-14CED238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C44C5-336F-438C-8B2B-9001377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1A60-16CD-49EE-8041-F9C1F93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34C6-1432-4B05-AB6E-88EC46C2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B6ED7-0EA3-4982-8470-DEF65D79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858-5A5F-4A60-8871-FAF9ABC0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A78-9AD3-4E83-BA91-3B75E55B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71D-729D-4337-9B55-CB9F3172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A56-774D-4792-A30F-0EAC619C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238-BD20-422B-8FAC-83BD5F4D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CF6B-72F5-4862-9C11-5F16E3CDF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E733-EB7B-4593-A251-E2C1307BC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852F-C210-40CD-AB15-7D5C0321AA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F6C8-6BC1-4C79-B1A8-9162F7A42E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itle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lue strip across the top of a program’s window; it tells you what you are work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 Drive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part of your computer that a floppy disk goes 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o save something to a disk you must save it to drive “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5120" y="321948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 Drive or hard dr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hard drive, it is the computer’s main storage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t is found inside the computer c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something is saved to the c drive it remains on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computer, you must be at the computer to retrieve that saved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 save something to that particular computer, save it to a folder on your C: Drive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Geneva"/>
              </a:rPr>
              <a:t>CD/RW drive</a:t>
            </a:r>
            <a:r>
              <a:rPr b="0" lang="en-US" sz="34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 drive that will not only let you play CDs, but save to CDs - called burning to a C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t looks like an ordinary CD drive.  Some can save, burn, more quickly than others.  Compare the speed such as 24X or 54X.  Higher numbers indicate faster reading or burn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 (compact disk recordable) allows you to burn information to a blank CD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once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W (compact disk rewritable)  allows you to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repeatedly burn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information to the disks.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3276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wbi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beginner who is unfamiliar with computers and the intern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714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ard boo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Using the power button to turn your computer off and on without going through the proper steps such as Special shut-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(D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do this.  If your computer is frozen, raise your hand and ask Mrs. Smith for hel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424800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ool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row of buttons across the top of your browser window that includes the Back Button, Home Button, Stop Button...; other programs can offer tool bars al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olbars display buttons you can click to easily access helpful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44197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ddress book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n area for storing e-mail addresses; allows you to quickly send e-mail without having to remember long addresses; usually has a place to store additional info such as phone numbers, birthdays, nicknam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optical mous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mouse that uses a laser to track movement instead of a ball and wheels inside the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umeric keypa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group of number keys found on the side of a keyboard.  Pressing the Num Lock key turns the numeric feature off/on.  An indicator light above the keypad shows whether it is on or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5382600">
            <a:off x="2788920" y="3859200"/>
            <a:ext cx="33480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ighlight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To surround something with color by clicking and dragging over it;  highlighting indicates you are going to work with whatever you selected or highlight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If something is highlighted with a flashing insertion point (line) at the end of it you can begin typing and the old will be replaced with the new information you type, no need to backspa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Use highlight to cut, copy, and paste th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4952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ase sensit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t matters if it is capital or lower case; as in typing an e-mail address, letters must be typed correc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05T14:44:26Z</dcterms:modified>
  <cp:revision>28</cp:revision>
  <dc:subject/>
  <dc:title>September</dc:title>
</cp:coreProperties>
</file>