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F659D-142E-4C17-859E-537B448E3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1F013-C4C5-401C-8EF4-8C56EDF23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68565-091D-4371-8E20-2D0BD1B3E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90F95-E715-49E9-981A-17921875C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F98ECF-4B15-45C1-A174-F9780B087A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7AC1C-D44D-4A74-8B70-425CAEE29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F3DF9-C5AD-4390-A207-D3FC1E60E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31CE0-EAEA-4425-8947-37CCA3F83C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CEA97-2049-461E-B249-409ADB4D8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DBE74-4A58-433F-81BE-584FFF15D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42DD7-3AF5-4F1C-B8E3-C0C57F1D3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FDCCD-74C4-4874-9004-259BC5E14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F813E-AC0E-4A16-B944-5413A8B05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CAA41-0B6D-489F-9B95-AACBDE76C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4884D-151C-40BA-8866-B97476DA5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2A90F1-8D00-452D-B7BF-30EDD802B1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C5C351-3131-4901-B39A-158C114AE7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ACE50-19E8-440C-954D-76731C1BF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67591-B1C4-4665-80A7-67A3CA52E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EDB8A-449D-4D0A-A3AF-D4B78BA21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837E5-A944-476B-BC9A-7B680BF1B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5906B-AFF1-4AB7-8B84-A338020B2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E6863-3255-4A42-851D-9CDC5A4B1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952FC-3751-4BF8-85A0-FD874D166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87000"/>
          </a:bodyPr>
          <a:p>
            <a:pPr marL="298440" indent="-29844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646200" indent="-24840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994320" indent="-19872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392120" indent="-19872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1789920" indent="-19872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1789920" indent="-19872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1789920" indent="-19872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7DB76-8478-4D76-93BB-19E674CF9BA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6C9FE-CAAE-4A71-8AB2-8B2AB9A3724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E-Portfolio Vocabulary</a:t>
            </a:r>
            <a:endParaRPr b="0" lang="en-US" sz="4400" spc="-1" strike="noStrike">
              <a:solidFill>
                <a:srgbClr val="ffffff"/>
              </a:solidFill>
              <a:latin typeface="Comic Sans MS"/>
            </a:endParaRPr>
          </a:p>
        </p:txBody>
      </p:sp>
      <p:sp>
        <p:nvSpPr>
          <p:cNvPr id="83" name="PlaceHolder 2"/>
          <p:cNvSpPr>
            <a:spLocks noGrp="1"/>
          </p:cNvSpPr>
          <p:nvPr>
            <p:ph type="subTitle"/>
          </p:nvPr>
        </p:nvSpPr>
        <p:spPr>
          <a:xfrm>
            <a:off x="2436480" y="3885840"/>
            <a:ext cx="4267080" cy="205740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rs. Tackett</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Minimize</a:t>
            </a:r>
            <a:endParaRPr b="0" lang="en-US" sz="4000" spc="-1" strike="noStrike">
              <a:solidFill>
                <a:srgbClr val="ffffff"/>
              </a:solidFill>
              <a:latin typeface="Comic Sans MS"/>
            </a:endParaRPr>
          </a:p>
        </p:txBody>
      </p:sp>
      <p:sp>
        <p:nvSpPr>
          <p:cNvPr id="10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 make the window as small as possible.</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croll Bar</a:t>
            </a:r>
            <a:endParaRPr b="0" lang="en-US" sz="4000" spc="-1" strike="noStrike">
              <a:solidFill>
                <a:srgbClr val="ffffff"/>
              </a:solidFill>
              <a:latin typeface="Comic Sans MS"/>
            </a:endParaRPr>
          </a:p>
        </p:txBody>
      </p:sp>
      <p:sp>
        <p:nvSpPr>
          <p:cNvPr id="10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87000"/>
          </a:bodyPr>
          <a:p>
            <a:pPr marL="298440" indent="-29844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o cause (displayed text or graphics) to move up, down, or across the screen so that a line of text or graphics appears at one edge of the screen for each line that moves off the opposite edge: </a:t>
            </a:r>
            <a:r>
              <a:rPr b="0" i="1" lang="en-US" sz="3200" spc="-1" strike="noStrike">
                <a:solidFill>
                  <a:srgbClr val="000000"/>
                </a:solidFill>
                <a:latin typeface="Geneva"/>
              </a:rPr>
              <a:t>scroll a document; scroll a page of text.</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ool Bar</a:t>
            </a:r>
            <a:endParaRPr b="0" lang="en-US" sz="4000" spc="-1" strike="noStrike">
              <a:solidFill>
                <a:srgbClr val="ffffff"/>
              </a:solidFill>
              <a:latin typeface="Comic Sans MS"/>
            </a:endParaRPr>
          </a:p>
        </p:txBody>
      </p:sp>
      <p:sp>
        <p:nvSpPr>
          <p:cNvPr id="107"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row of buttons across the top of your browser window that includes the most commonly used command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Drive</a:t>
            </a:r>
            <a:endParaRPr b="0" lang="en-US" sz="4000" spc="-1" strike="noStrike">
              <a:solidFill>
                <a:srgbClr val="ffffff"/>
              </a:solidFill>
              <a:latin typeface="Comic Sans MS"/>
            </a:endParaRPr>
          </a:p>
        </p:txBody>
      </p:sp>
      <p:sp>
        <p:nvSpPr>
          <p:cNvPr id="10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part of your computer that a CD goes into.</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Hard Drive</a:t>
            </a:r>
            <a:endParaRPr b="0" lang="en-US" sz="4000" spc="-1" strike="noStrike">
              <a:solidFill>
                <a:srgbClr val="ffffff"/>
              </a:solidFill>
              <a:latin typeface="Comic Sans MS"/>
            </a:endParaRPr>
          </a:p>
        </p:txBody>
      </p:sp>
      <p:sp>
        <p:nvSpPr>
          <p:cNvPr id="11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our computer’s main storage area.</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en you save something to the drive it remains on that computer </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Browser</a:t>
            </a:r>
            <a:endParaRPr b="0" lang="en-US" sz="4000" spc="-1" strike="noStrike">
              <a:solidFill>
                <a:srgbClr val="ffffff"/>
              </a:solidFill>
              <a:latin typeface="Comic Sans MS"/>
            </a:endParaRPr>
          </a:p>
        </p:txBody>
      </p:sp>
      <p:sp>
        <p:nvSpPr>
          <p:cNvPr id="11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program that you use to surf the internet such as Firefox, Safari or Internet Explorer.</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Hardware</a:t>
            </a:r>
            <a:endParaRPr b="0" lang="en-US" sz="4000" spc="-1" strike="noStrike">
              <a:solidFill>
                <a:srgbClr val="ffffff"/>
              </a:solidFill>
              <a:latin typeface="Comic Sans MS"/>
            </a:endParaRPr>
          </a:p>
        </p:txBody>
      </p:sp>
      <p:sp>
        <p:nvSpPr>
          <p:cNvPr id="8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 parts of your computer such as the monitor, tower and keyboard</a:t>
            </a:r>
            <a:endParaRPr b="0" lang="en-US" sz="3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oftware</a:t>
            </a:r>
            <a:endParaRPr b="0" lang="en-US" sz="4000" spc="-1" strike="noStrike">
              <a:solidFill>
                <a:srgbClr val="ffffff"/>
              </a:solidFill>
              <a:latin typeface="Comic Sans MS"/>
            </a:endParaRPr>
          </a:p>
        </p:txBody>
      </p:sp>
      <p:sp>
        <p:nvSpPr>
          <p:cNvPr id="87"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nything that can be stored electronically</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desktop</a:t>
            </a:r>
            <a:endParaRPr b="0" lang="en-US" sz="4000" spc="-1" strike="noStrike">
              <a:solidFill>
                <a:srgbClr val="ffffff"/>
              </a:solidFill>
              <a:latin typeface="Comic Sans MS"/>
            </a:endParaRPr>
          </a:p>
        </p:txBody>
      </p:sp>
      <p:sp>
        <p:nvSpPr>
          <p:cNvPr id="8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The desktop is the screen where all your icons are located.  You can move items on your computer’s desktop, much like you can move items on an actual desk.</a:t>
            </a:r>
            <a:endParaRPr b="0" lang="en-US" sz="32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nternet</a:t>
            </a:r>
            <a:endParaRPr b="0" lang="en-US" sz="4000" spc="-1" strike="noStrike">
              <a:solidFill>
                <a:srgbClr val="ffffff"/>
              </a:solidFill>
              <a:latin typeface="Comic Sans MS"/>
            </a:endParaRPr>
          </a:p>
        </p:txBody>
      </p:sp>
      <p:sp>
        <p:nvSpPr>
          <p:cNvPr id="9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88000"/>
          </a:bodyPr>
          <a:p>
            <a:pPr marL="301680" indent="-3016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neva"/>
              </a:rPr>
              <a:t>Web sites created by individuals, institutions, and companies are published and can be accessed by anyone with Internet service anywhere in the world.  Those web sites are hosted (stored) on servers.</a:t>
            </a:r>
            <a:endParaRPr b="0" lang="en-US" sz="35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ntranet</a:t>
            </a:r>
            <a:endParaRPr b="0" lang="en-US" sz="4000" spc="-1" strike="noStrike">
              <a:solidFill>
                <a:srgbClr val="ffffff"/>
              </a:solidFill>
              <a:latin typeface="Comic Sans MS"/>
            </a:endParaRPr>
          </a:p>
        </p:txBody>
      </p:sp>
      <p:sp>
        <p:nvSpPr>
          <p:cNvPr id="9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eb sites created by individuals that can only be looked at from within a certain area.  If you create an intranet website from within the school, it can only be viewed in the school.</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a:t>
            </a:r>
            <a:endParaRPr b="0" lang="en-US" sz="4000" spc="-1" strike="noStrike">
              <a:solidFill>
                <a:srgbClr val="ffffff"/>
              </a:solidFill>
              <a:latin typeface="Comic Sans MS"/>
            </a:endParaRPr>
          </a:p>
        </p:txBody>
      </p:sp>
      <p:sp>
        <p:nvSpPr>
          <p:cNvPr id="9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What you do to tell the mouse what you want the computer to do.  Single click everything except icons</a:t>
            </a:r>
            <a:endParaRPr b="0" lang="en-US" sz="3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Double-Click</a:t>
            </a:r>
            <a:endParaRPr b="0" lang="en-US" sz="4000" spc="-1" strike="noStrike">
              <a:solidFill>
                <a:srgbClr val="ffffff"/>
              </a:solidFill>
              <a:latin typeface="Comic Sans MS"/>
            </a:endParaRPr>
          </a:p>
        </p:txBody>
      </p:sp>
      <p:sp>
        <p:nvSpPr>
          <p:cNvPr id="97"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Push your mouse two times quickly on icons.  Single click everything else.</a:t>
            </a:r>
            <a:endParaRPr b="0" lang="en-US" sz="36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Don’t be a clicking Maniac!)</a:t>
            </a:r>
            <a:endParaRPr b="0" lang="en-US" sz="3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Maximize</a:t>
            </a:r>
            <a:endParaRPr b="0" lang="en-US" sz="4000" spc="-1" strike="noStrike">
              <a:solidFill>
                <a:srgbClr val="ffffff"/>
              </a:solidFill>
              <a:latin typeface="Comic Sans MS"/>
            </a:endParaRPr>
          </a:p>
        </p:txBody>
      </p:sp>
      <p:sp>
        <p:nvSpPr>
          <p:cNvPr id="9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 make the window as large as possible</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4:06:19Z</dcterms:created>
  <dc:creator>Oneco Elementary</dc:creator>
  <dc:description/>
  <dc:language>en-US</dc:language>
  <cp:lastModifiedBy>Oneco Elementary</cp:lastModifiedBy>
  <dcterms:modified xsi:type="dcterms:W3CDTF">2007-10-23T16:27:57Z</dcterms:modified>
  <cp:revision>2</cp:revision>
  <dc:subject/>
  <dc:title>E-Portfolio Vocabulary</dc:title>
</cp:coreProperties>
</file>