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01F7C-DC7C-43E3-B7F4-999EEB7C7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75A88-4A36-46E5-91D8-5B74F1A5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46BE0-E698-44F5-8D07-8E8FE91D2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3576-AB56-4967-A3C2-1091B38C5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D0C1F-00F8-457D-965E-552779B16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E95FA-92AD-4E03-9FC9-0DAD819B2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EBBEB-2E27-4691-8C29-8F07CB338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9E514-E332-45DA-9F57-0DEAECEC8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04E7B-D596-4930-AF8A-8B224F3E4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320C5-9582-4FF6-AB8A-6231463B6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3722E-0AFE-4371-817C-591B28589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2AC42-9CC5-42A9-8AD5-01936BF11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8C279-BBFC-4BAC-8610-D50A9D70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758E9-255F-4431-A576-1BDFBE5E2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0EE5D-B942-4E98-85A2-FCCE1A3B7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AA1CD-DAA4-464F-BA68-F298CC6A7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8A695-71B7-4212-9BB8-DC02B1679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25A3-E758-4C1C-B869-5FF7CA874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BAACF-B70A-4085-B7A6-E3CC1C00F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89EB-F87A-4664-A4DA-2BDF9B121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5B01D-31B6-4625-8193-0C4F5E62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250C-B73D-4CDC-99D6-873E50EB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64A71-CBF6-48ED-98F8-66DD2B23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DBED-FDBD-40A4-BDF5-34DB2510E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46200" indent="-24840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994320" indent="-19872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392120" indent="-19872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789920" indent="-19872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51E3-A658-4D3E-8A87-EAF65FC4838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0315-2B84-48F8-A169-EB53B5170A6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Portfolio Vocabulary</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rs. Tacket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inimize</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small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croll Bar</a:t>
            </a:r>
            <a:endParaRPr b="0" lang="en-US" sz="40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200" spc="-1" strike="noStrike">
                <a:solidFill>
                  <a:srgbClr val="000000"/>
                </a:solidFill>
                <a:latin typeface="Geneva"/>
              </a:rPr>
              <a:t>scroll a document; scroll a page of tex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ool Bar</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row of buttons across the top of your browser window that includes the most commonly used command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ive</a:t>
            </a:r>
            <a:endParaRPr b="0" lang="en-US" sz="4000" spc="-1" strike="noStrike">
              <a:solidFill>
                <a:srgbClr val="ffffff"/>
              </a:solidFill>
              <a:latin typeface="Comic Sans MS"/>
            </a:endParaRPr>
          </a:p>
        </p:txBody>
      </p:sp>
      <p:sp>
        <p:nvSpPr>
          <p:cNvPr id="10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art of your computer that a CD goes int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 Drive</a:t>
            </a: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computer’s main storage area.</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en you save something to the drive it remains on that computer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rowser</a:t>
            </a:r>
            <a:endParaRPr b="0" lang="en-US" sz="4000" spc="-1" strike="noStrike">
              <a:solidFill>
                <a:srgbClr val="ffffff"/>
              </a:solidFill>
              <a:latin typeface="Comic Sans MS"/>
            </a:endParaRPr>
          </a:p>
        </p:txBody>
      </p:sp>
      <p:sp>
        <p:nvSpPr>
          <p:cNvPr id="11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program that you use to surf the internet such as Firefox, Safari or Internet Explor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ware</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arts of your computer such as the monitor, tower and keyboard</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ftware</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ything that can be stored electronicall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esktop</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desktop is the screen where all your icons are located.  You can move items on your computer’s desktop, much like you can move items on an actual desk.</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ernet</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8000"/>
          </a:bodyPr>
          <a:p>
            <a:pPr marL="301680" indent="-3016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Web sites created by individuals, institutions, and companies are published and can be accessed by anyone with Internet service anywhere in the world.  Those web sites are hosted (stored) on servers.</a:t>
            </a:r>
            <a:endParaRPr b="0" lang="en-US" sz="35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ranet</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b sites created by individuals that can only be looked at from within a certain area.  If you create an intranet website from within the school, it can only be viewed in the schoo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ouble-Click</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ximize</a:t>
            </a:r>
            <a:endParaRPr b="0" lang="en-US" sz="40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large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06:19Z</dcterms:created>
  <dc:creator>Oneco Elementary</dc:creator>
  <dc:description/>
  <dc:language>en-US</dc:language>
  <cp:lastModifiedBy>Oneco Elementary</cp:lastModifiedBy>
  <dcterms:modified xsi:type="dcterms:W3CDTF">2007-10-23T16:27:57Z</dcterms:modified>
  <cp:revision>2</cp:revision>
  <dc:subject/>
  <dc:title>E-Portfolio Vocabulary</dc:title>
</cp:coreProperties>
</file>