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2C-97ED-4909-A7BA-DAFFABD1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123-564A-4E48-BFBF-21DFAA3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CA6-B4E4-44B8-B475-8970FF1C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548-3C61-4885-80AE-C0317F65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B60-F843-49D2-8A0C-9B3DEBA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FF3-A162-45FA-95B3-503FC60A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AF7-2379-4A68-B6A2-7F92035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4AC-C021-4352-A45F-E832A88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AEE-3842-46D8-BB1A-9444032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A2E-C62F-4504-B586-FC3B201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D90-C1C3-4C5E-A1D9-28B1892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F44-E1E1-4187-8820-32CFA30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5D0-EE72-4E5F-9BDA-DDEAD461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kmom.com/buzzword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folio webs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e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en River Middl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efolio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folio is going to be about you and about your connection to school, home,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20200">
            <a:off x="5206680" y="2449080"/>
            <a:ext cx="29192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show your connections to the world and global out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re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do any community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ach out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earn abou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 others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lk abou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elp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sten to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? Your friends? Your club or churc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and Go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hoos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rk on m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ake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57280" y="2200320"/>
            <a:ext cx="3838680" cy="3324240"/>
            <a:chOff x="557280" y="2200320"/>
            <a:chExt cx="3838680" cy="3324240"/>
          </a:xfrm>
        </p:grpSpPr>
        <p:sp>
          <p:nvSpPr>
            <p:cNvPr id="55" name="_s9225"/>
            <p:cNvSpPr/>
            <p:nvPr/>
          </p:nvSpPr>
          <p:spPr>
            <a:xfrm flipV="1">
              <a:off x="183672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HED YOUR GO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26"/>
            <p:cNvSpPr/>
            <p:nvPr/>
          </p:nvSpPr>
          <p:spPr>
            <a:xfrm flipV="1">
              <a:off x="119700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itor prog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27"/>
            <p:cNvSpPr/>
            <p:nvPr/>
          </p:nvSpPr>
          <p:spPr>
            <a:xfrm flipV="1">
              <a:off x="55728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your d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01640" y="418464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usiasm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fu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ind new things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plore our world and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read the following words what image comes to mind? url?upload?create a folder?scan?usb flash d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tart with some computer ter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kmom.com/buzz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00:06Z</dcterms:created>
  <dc:creator>Jane Beach</dc:creator>
  <dc:description/>
  <dc:language>en-US</dc:language>
  <cp:lastModifiedBy>Jane Beach</cp:lastModifiedBy>
  <dcterms:modified xsi:type="dcterms:W3CDTF">2007-10-23T17:26:05Z</dcterms:modified>
  <cp:revision>6</cp:revision>
  <dc:subject/>
  <dc:title>What is a website?</dc:title>
</cp:coreProperties>
</file>