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4B4-5A1E-4403-9C69-3D1A1E29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386-CBF8-4A99-A973-7317B23A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877-9406-49B1-AC65-6A6A86EA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009-4F9D-4180-9EDA-94DD3FED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2FF-4E03-4DE4-82AF-A0807CC0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AA4-2B5A-4F69-8840-ED187E55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DA6-55C0-49E6-B907-90B37C3B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D2B-C1E8-4F5C-9ACC-1CCCCB22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2F38-A188-4A8E-880E-51165246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47A6-732F-4F35-9009-74AFA4BE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713-E83F-483D-86E1-1C8DFBE8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362-9C5A-460B-9EE7-62A39B78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F5DA-BFBE-4FE5-83B0-CD32BEE20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kmom.com/buzzwords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folio webs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e B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den River Middle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 efolio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ortfolio is going to be about you and about your connection to school, home, the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620200">
            <a:off x="5206680" y="2449080"/>
            <a:ext cx="291924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show your connections to the world and global outr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re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do any community ser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reach out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earn about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respect others and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cratic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alk about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elp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sten to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your family? Your friends? Your club or churc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and Goal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hoose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ake a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rk on m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ake new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57280" y="2200320"/>
            <a:ext cx="3838680" cy="3324240"/>
            <a:chOff x="557280" y="2200320"/>
            <a:chExt cx="3838680" cy="3324240"/>
          </a:xfrm>
        </p:grpSpPr>
        <p:sp>
          <p:nvSpPr>
            <p:cNvPr id="55" name="_s9225"/>
            <p:cNvSpPr/>
            <p:nvPr/>
          </p:nvSpPr>
          <p:spPr>
            <a:xfrm flipV="1">
              <a:off x="1836720" y="2200320"/>
              <a:ext cx="1279440" cy="1108080"/>
            </a:xfrm>
            <a:custGeom>
              <a:avLst/>
              <a:gdLst>
                <a:gd name="textAreaLeft" fmla="*/ 459000 w 1279440"/>
                <a:gd name="textAreaRight" fmla="*/ 820440 w 1279440"/>
                <a:gd name="textAreaTop" fmla="*/ 397440 h 1108080"/>
                <a:gd name="textAreaBottom" fmla="*/ 71064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CHED YOUR GO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9226"/>
            <p:cNvSpPr/>
            <p:nvPr/>
          </p:nvSpPr>
          <p:spPr>
            <a:xfrm flipV="1">
              <a:off x="1197000" y="3308400"/>
              <a:ext cx="2558880" cy="1108080"/>
            </a:xfrm>
            <a:custGeom>
              <a:avLst/>
              <a:gdLst>
                <a:gd name="textAreaLeft" fmla="*/ 562680 w 2558880"/>
                <a:gd name="textAreaRight" fmla="*/ 1996200 w 2558880"/>
                <a:gd name="textAreaTop" fmla="*/ 243720 h 1108080"/>
                <a:gd name="textAreaBottom" fmla="*/ 86436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nitor progr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9227"/>
            <p:cNvSpPr/>
            <p:nvPr/>
          </p:nvSpPr>
          <p:spPr>
            <a:xfrm flipV="1">
              <a:off x="557280" y="4416480"/>
              <a:ext cx="3838680" cy="1108080"/>
            </a:xfrm>
            <a:custGeom>
              <a:avLst/>
              <a:gdLst>
                <a:gd name="textAreaLeft" fmla="*/ 666360 w 3838680"/>
                <a:gd name="textAreaRight" fmla="*/ 3172320 w 3838680"/>
                <a:gd name="textAreaTop" fmla="*/ 192240 h 1108080"/>
                <a:gd name="textAreaBottom" fmla="*/ 91584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 your dre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husiasm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601640" y="4184640"/>
            <a:ext cx="17481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husiasm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fu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find new things to lea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explore our world and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read the following words what image comes to mind? url?upload?create a folder?scan?usb flash d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start with some computer term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tekmom.com/buzzw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400800" y="2362320"/>
            <a:ext cx="1828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4:00:06Z</dcterms:created>
  <dc:creator>Jane Beach</dc:creator>
  <dc:description/>
  <dc:language>en-US</dc:language>
  <cp:lastModifiedBy>Jane Beach</cp:lastModifiedBy>
  <dcterms:modified xsi:type="dcterms:W3CDTF">2007-10-23T17:26:05Z</dcterms:modified>
  <cp:revision>6</cp:revision>
  <dc:subject/>
  <dc:title>What is a website?</dc:title>
</cp:coreProperties>
</file>