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BBB-0E25-4C54-BF32-29DDCA04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F4E-A744-475B-9409-66C9CF50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2F2-80D6-482B-A519-51168381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C36-3757-41C7-A84F-7FD6CB51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FF3-0F61-4C12-99D0-82A7418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909-0A38-4D3F-8B6E-DD7513FB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861-1109-4EF5-BEC9-CBF1DC9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B53-0D81-490C-A61F-E37B941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CDC-2A26-43E3-A618-3858E63B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F79-AF0B-4F7A-92F1-869CB7E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0EF-8D7A-414F-AE75-3E4D2280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478-9612-4519-8889-17A8413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ADD8-84D1-4768-9C44-5FC8B70A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kmom.com/buzzword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folio web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en River Middl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efolio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folio is going to be about you and about your connection to school, home,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20200">
            <a:off x="5206680" y="2449080"/>
            <a:ext cx="29192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show your connections to the world and global out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do any community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ach out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abou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 others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elp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sten to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? Your friends? Your club or chur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and 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os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rk on m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7280" y="2200320"/>
            <a:ext cx="3838680" cy="3324240"/>
            <a:chOff x="557280" y="2200320"/>
            <a:chExt cx="3838680" cy="3324240"/>
          </a:xfrm>
        </p:grpSpPr>
        <p:sp>
          <p:nvSpPr>
            <p:cNvPr id="55" name="_s9225"/>
            <p:cNvSpPr/>
            <p:nvPr/>
          </p:nvSpPr>
          <p:spPr>
            <a:xfrm flipV="1">
              <a:off x="183672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HED YOUR G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26"/>
            <p:cNvSpPr/>
            <p:nvPr/>
          </p:nvSpPr>
          <p:spPr>
            <a:xfrm flipV="1">
              <a:off x="119700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itor prog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7"/>
            <p:cNvSpPr/>
            <p:nvPr/>
          </p:nvSpPr>
          <p:spPr>
            <a:xfrm flipV="1">
              <a:off x="55728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your d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418464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fu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new things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plore our world and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ad the following words what image comes to mind? url?upload?create a folder?scan?usb flash d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 with some computer ter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kmom.com/buzz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00:06Z</dcterms:created>
  <dc:creator>Jane Beach</dc:creator>
  <dc:description/>
  <dc:language>en-US</dc:language>
  <cp:lastModifiedBy>Jane Beach</cp:lastModifiedBy>
  <dcterms:modified xsi:type="dcterms:W3CDTF">2007-10-23T17:26:05Z</dcterms:modified>
  <cp:revision>6</cp:revision>
  <dc:subject/>
  <dc:title>What is a website?</dc:title>
</cp:coreProperties>
</file>