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C1D0-021D-4FAB-8684-AC2C8E2A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D271-C945-442D-B843-1EE05AAC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54BB-76F8-4020-8B51-E42EECCA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74FA-1887-4193-A6A1-D01F5496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6A3B-6F79-4A41-91AE-641CECAA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1ADF-6C0C-4A1D-97DC-060EC72C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BAC1-4549-4C84-B7C5-C4128A98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2F78-E5AA-4189-9715-061A9BCB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F4F2-ADE5-4507-A11E-BC815157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8EE1-F756-4BEA-AF0B-39AB4A1C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1679-B1C2-498A-9345-12A1B0DB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AAB3-09A5-4DD2-AD2C-29191B1A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F868-F30C-4C33-9624-20FCDD0E1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ekmom.com/buzzwords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efolio webs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e B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den River Middle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 efolio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-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ortfolio is going to be about you and about your connection to school, home, the wor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620200">
            <a:off x="5206680" y="2449080"/>
            <a:ext cx="291924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Outr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show your connections to the world and global outr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recy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do any community serv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reach out to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earn about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respect others and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cratic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alk about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elp Solv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sten to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v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your family? Your friends? Your club or church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 and Goal 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hoose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make a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ork on my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make new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57280" y="2200320"/>
            <a:ext cx="3838680" cy="3324240"/>
            <a:chOff x="557280" y="2200320"/>
            <a:chExt cx="3838680" cy="3324240"/>
          </a:xfrm>
        </p:grpSpPr>
        <p:sp>
          <p:nvSpPr>
            <p:cNvPr id="55" name="_s9225"/>
            <p:cNvSpPr/>
            <p:nvPr/>
          </p:nvSpPr>
          <p:spPr>
            <a:xfrm flipV="1">
              <a:off x="1836720" y="2200320"/>
              <a:ext cx="1279440" cy="1108080"/>
            </a:xfrm>
            <a:custGeom>
              <a:avLst/>
              <a:gdLst>
                <a:gd name="textAreaLeft" fmla="*/ 459000 w 1279440"/>
                <a:gd name="textAreaRight" fmla="*/ 820440 w 1279440"/>
                <a:gd name="textAreaTop" fmla="*/ 397440 h 1108080"/>
                <a:gd name="textAreaBottom" fmla="*/ 710640 h 11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ACHED YOUR GO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9226"/>
            <p:cNvSpPr/>
            <p:nvPr/>
          </p:nvSpPr>
          <p:spPr>
            <a:xfrm flipV="1">
              <a:off x="1197000" y="3308400"/>
              <a:ext cx="2558880" cy="1108080"/>
            </a:xfrm>
            <a:custGeom>
              <a:avLst/>
              <a:gdLst>
                <a:gd name="textAreaLeft" fmla="*/ 562680 w 2558880"/>
                <a:gd name="textAreaRight" fmla="*/ 1996200 w 2558880"/>
                <a:gd name="textAreaTop" fmla="*/ 243720 h 1108080"/>
                <a:gd name="textAreaBottom" fmla="*/ 864360 h 11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nitor progr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9227"/>
            <p:cNvSpPr/>
            <p:nvPr/>
          </p:nvSpPr>
          <p:spPr>
            <a:xfrm flipV="1">
              <a:off x="557280" y="4416480"/>
              <a:ext cx="3838680" cy="1108080"/>
            </a:xfrm>
            <a:custGeom>
              <a:avLst/>
              <a:gdLst>
                <a:gd name="textAreaLeft" fmla="*/ 666360 w 3838680"/>
                <a:gd name="textAreaRight" fmla="*/ 3172320 w 3838680"/>
                <a:gd name="textAreaTop" fmla="*/ 192240 h 1108080"/>
                <a:gd name="textAreaBottom" fmla="*/ 915840 h 11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rt your dre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husiasm For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601640" y="4184640"/>
            <a:ext cx="17481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husiasm For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ke to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ve fun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find new things to lea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explore our world and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read the following words what image comes to mind? url?upload?create a folder?scan?usb flash dr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start with some computer term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tekmom.com/buzzwor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400800" y="2362320"/>
            <a:ext cx="1828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4:00:06Z</dcterms:created>
  <dc:creator>Jane Beach</dc:creator>
  <dc:description/>
  <dc:language>en-US</dc:language>
  <cp:lastModifiedBy>Jane Beach</cp:lastModifiedBy>
  <dcterms:modified xsi:type="dcterms:W3CDTF">2007-10-23T17:26:05Z</dcterms:modified>
  <cp:revision>6</cp:revision>
  <dc:subject/>
  <dc:title>What is a website?</dc:title>
</cp:coreProperties>
</file>