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0817-42EF-4ED5-8749-20541616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821-E683-415F-B5C5-0890FE2E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024D-669E-41D8-8E0C-DDCB73CE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2F83-DDC0-47B5-B971-588E6FB0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F4A0-97AD-496D-ACC7-847A89A8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609-DA7B-4629-8158-54705A71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75B4-13E0-400A-A25B-72078932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5C4-5582-4694-BB66-6C45CA02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0EC-394B-4B8F-98B7-CB9D2EE8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921-F27B-4D4F-8D92-70E0FA68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6DA9-D78D-4F2D-AAB2-F0CB7F8F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2F2-C143-4F66-B326-32189B04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53C8-B230-47E8-B781-451E76EC1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kmom.com/buzzwords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folio webs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e B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en River Middle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 efolio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ortfolio is going to be about you and about your connection to school, home, the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620200">
            <a:off x="5206680" y="2449080"/>
            <a:ext cx="29192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show your connections to the world and global outr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re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do any community ser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reach out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earn about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respect others and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tic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alk about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elp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sten to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family? Your friends? Your club or churc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and Goal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hoose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ake a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rk on m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ake new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57280" y="2200320"/>
            <a:ext cx="3838680" cy="3324240"/>
            <a:chOff x="557280" y="2200320"/>
            <a:chExt cx="3838680" cy="3324240"/>
          </a:xfrm>
        </p:grpSpPr>
        <p:sp>
          <p:nvSpPr>
            <p:cNvPr id="55" name="_s9225"/>
            <p:cNvSpPr/>
            <p:nvPr/>
          </p:nvSpPr>
          <p:spPr>
            <a:xfrm flipV="1">
              <a:off x="1836720" y="2200320"/>
              <a:ext cx="1279440" cy="1108080"/>
            </a:xfrm>
            <a:custGeom>
              <a:avLst/>
              <a:gdLst>
                <a:gd name="textAreaLeft" fmla="*/ 459000 w 1279440"/>
                <a:gd name="textAreaRight" fmla="*/ 820440 w 1279440"/>
                <a:gd name="textAreaTop" fmla="*/ 397440 h 1108080"/>
                <a:gd name="textAreaBottom" fmla="*/ 71064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CHED YOUR GO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9226"/>
            <p:cNvSpPr/>
            <p:nvPr/>
          </p:nvSpPr>
          <p:spPr>
            <a:xfrm flipV="1">
              <a:off x="1197000" y="3308400"/>
              <a:ext cx="2558880" cy="1108080"/>
            </a:xfrm>
            <a:custGeom>
              <a:avLst/>
              <a:gdLst>
                <a:gd name="textAreaLeft" fmla="*/ 562680 w 2558880"/>
                <a:gd name="textAreaRight" fmla="*/ 1996200 w 2558880"/>
                <a:gd name="textAreaTop" fmla="*/ 243720 h 1108080"/>
                <a:gd name="textAreaBottom" fmla="*/ 86436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nitor progr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9227"/>
            <p:cNvSpPr/>
            <p:nvPr/>
          </p:nvSpPr>
          <p:spPr>
            <a:xfrm flipV="1">
              <a:off x="557280" y="4416480"/>
              <a:ext cx="3838680" cy="1108080"/>
            </a:xfrm>
            <a:custGeom>
              <a:avLst/>
              <a:gdLst>
                <a:gd name="textAreaLeft" fmla="*/ 666360 w 3838680"/>
                <a:gd name="textAreaRight" fmla="*/ 3172320 w 3838680"/>
                <a:gd name="textAreaTop" fmla="*/ 192240 h 1108080"/>
                <a:gd name="textAreaBottom" fmla="*/ 91584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 your dre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husiasm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601640" y="4184640"/>
            <a:ext cx="17481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husiasm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fu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find new things to lea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explore our world and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read the following words what image comes to mind? url?upload?create a folder?scan?usb flash d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start with some computer term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tekmom.com/buzzw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400800" y="2362320"/>
            <a:ext cx="1828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4:00:06Z</dcterms:created>
  <dc:creator>Jane Beach</dc:creator>
  <dc:description/>
  <dc:language>en-US</dc:language>
  <cp:lastModifiedBy>Jane Beach</cp:lastModifiedBy>
  <dcterms:modified xsi:type="dcterms:W3CDTF">2007-10-23T17:26:05Z</dcterms:modified>
  <cp:revision>6</cp:revision>
  <dc:subject/>
  <dc:title>What is a website?</dc:title>
</cp:coreProperties>
</file>